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chimes.wav" ContentType="audio/x-wav"/>
  <Override PartName="/ppt/media/image4.jpeg" ContentType="image/jpeg"/>
  <Override PartName="/ppt/media/image25.jpeg" ContentType="image/jpeg"/>
  <Override PartName="/ppt/media/image12.png" ContentType="image/png"/>
  <Override PartName="/ppt/media/image3.gif" ContentType="image/gif"/>
  <Override PartName="/ppt/media/image6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2.gif" ContentType="image/gif"/>
  <Override PartName="/ppt/media/image11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284-69A4-4397-BD50-C41088EB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C51-B6FA-4250-93A1-66FF8F4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52A-7398-48B0-A1F3-3ED01A55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09C-006E-4FB3-AB9F-7CDA5442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AD2-1372-4A3C-B207-548ECEB3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638-3CCD-4D8A-90E6-04A8D46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9D3-0F34-4A9F-9EDF-7FFF6E57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6E5-421C-44D1-9D77-B6674969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BF1-AB43-4DAE-B436-0D91244C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B7E-2550-44CA-AC4B-6FDDD4B1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AED-C78E-4739-A6BB-813DAA2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6D6-8FB6-4A12-92D6-ACC6E831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38B-F795-4A53-AC43-D50D12A44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eas-spring1024-768k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8600" y="2438280"/>
            <a:ext cx="8686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It will rain in Beijing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Picture 7" descr="课件图"/>
          <p:cNvPicPr/>
          <p:nvPr/>
        </p:nvPicPr>
        <p:blipFill>
          <a:blip r:embed="rId2"/>
          <a:stretch/>
        </p:blipFill>
        <p:spPr>
          <a:xfrm>
            <a:off x="2590920" y="0"/>
            <a:ext cx="4400280" cy="174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蘑菇"/>
          <p:cNvPicPr/>
          <p:nvPr/>
        </p:nvPicPr>
        <p:blipFill>
          <a:blip r:embed="rId3"/>
          <a:stretch/>
        </p:blipFill>
        <p:spPr>
          <a:xfrm>
            <a:off x="250920" y="4941720"/>
            <a:ext cx="1727280" cy="155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260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4797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块石小学        张力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43751" t="64004" r="51250" b="24002"/>
          <a:stretch/>
        </p:blipFill>
        <p:spPr>
          <a:xfrm>
            <a:off x="2700360" y="-171360"/>
            <a:ext cx="335268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514600" y="457200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7202" t="46133" r="30002" b="50598"/>
          <a:stretch/>
        </p:blipFill>
        <p:spPr>
          <a:xfrm>
            <a:off x="1066680" y="609480"/>
            <a:ext cx="563904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371600" y="40384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太阳"/>
          <p:cNvPicPr/>
          <p:nvPr/>
        </p:nvPicPr>
        <p:blipFill>
          <a:blip r:embed="rId1"/>
          <a:stretch/>
        </p:blipFill>
        <p:spPr>
          <a:xfrm>
            <a:off x="2484360" y="1700280"/>
            <a:ext cx="215892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太阳"/>
          <p:cNvPicPr/>
          <p:nvPr/>
        </p:nvPicPr>
        <p:blipFill>
          <a:blip r:embed="rId2"/>
          <a:stretch/>
        </p:blipFill>
        <p:spPr>
          <a:xfrm>
            <a:off x="4716360" y="1700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50920" y="386064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warm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=2843551874,50224992&amp;fm=0&amp;gp=44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264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411280" y="5877000"/>
            <a:ext cx="407700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Weather Report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2" name="Picture 4" descr="F008"/>
          <p:cNvPicPr/>
          <p:nvPr/>
        </p:nvPicPr>
        <p:blipFill>
          <a:blip r:embed="rId2"/>
          <a:stretch/>
        </p:blipFill>
        <p:spPr>
          <a:xfrm>
            <a:off x="3203640" y="-171360"/>
            <a:ext cx="237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189000"/>
            <a:ext cx="9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will the weather be like tomorrow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a00"/>
          <p:cNvPicPr/>
          <p:nvPr/>
        </p:nvPicPr>
        <p:blipFill>
          <a:blip r:embed="rId2"/>
          <a:stretch/>
        </p:blipFill>
        <p:spPr>
          <a:xfrm>
            <a:off x="7380360" y="3357720"/>
            <a:ext cx="1152360" cy="96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a12"/>
          <p:cNvPicPr/>
          <p:nvPr/>
        </p:nvPicPr>
        <p:blipFill>
          <a:blip r:embed="rId3"/>
          <a:stretch/>
        </p:blipFill>
        <p:spPr>
          <a:xfrm>
            <a:off x="7164360" y="981000"/>
            <a:ext cx="1081080" cy="89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13"/>
          <p:cNvPicPr/>
          <p:nvPr/>
        </p:nvPicPr>
        <p:blipFill>
          <a:blip r:embed="rId4"/>
          <a:stretch/>
        </p:blipFill>
        <p:spPr>
          <a:xfrm>
            <a:off x="7524720" y="2276640"/>
            <a:ext cx="936720" cy="869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564000" y="3500280"/>
            <a:ext cx="41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635280" y="4508640"/>
            <a:ext cx="40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70836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708360" y="1268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5"/>
          <a:srcRect l="43751" t="64004" r="51250" b="24002"/>
          <a:stretch/>
        </p:blipFill>
        <p:spPr>
          <a:xfrm>
            <a:off x="7885080" y="5661000"/>
            <a:ext cx="592200" cy="890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134136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Beijing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21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Harbin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500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Dalian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437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Xi’an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51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Guangzhou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708360" y="5516640"/>
            <a:ext cx="40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6"/>
          <a:srcRect l="20342" t="62365" r="74320" b="29000"/>
          <a:stretch/>
        </p:blipFill>
        <p:spPr>
          <a:xfrm>
            <a:off x="7740720" y="4437000"/>
            <a:ext cx="10414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4240" y="2282760"/>
            <a:ext cx="7207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For exampl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snow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in  Harbin.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71440" y="2249640"/>
            <a:ext cx="5299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rain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843280" y="537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Beij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72520" y="2249640"/>
            <a:ext cx="573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be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ho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84328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Guangzhou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73600" y="2249640"/>
            <a:ext cx="635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be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wind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84328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Xi'a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2880" y="2249640"/>
            <a:ext cx="6328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be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sunn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84328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Dalia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539640" y="1557360"/>
            <a:ext cx="7718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_____________ in Harbi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_____________ in Tianji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_________ in beij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_________ in Nan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 and cha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vy rain shower"/>
          <p:cNvPicPr/>
          <p:nvPr/>
        </p:nvPicPr>
        <p:blipFill>
          <a:blip r:embed="rId1"/>
          <a:stretch/>
        </p:blipFill>
        <p:spPr>
          <a:xfrm>
            <a:off x="2484360" y="260280"/>
            <a:ext cx="3672000" cy="2492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900000" y="270828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ain /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44360" y="522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 will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 be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rainy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39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 will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rain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5_heavy_shower_night"/>
          <p:cNvPicPr/>
          <p:nvPr/>
        </p:nvPicPr>
        <p:blipFill>
          <a:blip r:embed="rId1"/>
          <a:stretch/>
        </p:blipFill>
        <p:spPr>
          <a:xfrm>
            <a:off x="2268360" y="260280"/>
            <a:ext cx="3743640" cy="2205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692360" y="263700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now/snow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84360" y="33577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 will snow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494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will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b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snowy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unny day"/>
          <p:cNvPicPr/>
          <p:nvPr/>
        </p:nvPicPr>
        <p:blipFill>
          <a:blip r:embed="rId1"/>
          <a:stretch/>
        </p:blipFill>
        <p:spPr>
          <a:xfrm>
            <a:off x="2627280" y="404640"/>
            <a:ext cx="3745080" cy="2781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132000" y="3357720"/>
            <a:ext cx="44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will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b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sunny.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05440" y="1628640"/>
            <a:ext cx="279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t will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4859280" y="54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5486400" y="518148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219640" y="-17136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sunn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cloud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rain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wind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snow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hot /cold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warm/co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98600" y="5084640"/>
            <a:ext cx="285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t wi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227640" y="4221000"/>
            <a:ext cx="251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win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no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7499" t="23001" r="52502" b="3000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819520" y="-7632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Chin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rcRect l="67491" t="24002" r="25432" b="44003"/>
          <a:stretch/>
        </p:blipFill>
        <p:spPr>
          <a:xfrm>
            <a:off x="0" y="476280"/>
            <a:ext cx="1968480" cy="556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rcRect l="44103" t="44003" r="51250" b="48004"/>
          <a:stretch/>
        </p:blipFill>
        <p:spPr>
          <a:xfrm>
            <a:off x="6084720" y="2565360"/>
            <a:ext cx="6685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549360"/>
            <a:ext cx="9866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Ask and answ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will the weather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like  i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Harbin/ Lhasa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Xian/ Shangha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Guangzhou 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-228600"/>
            <a:ext cx="9829800" cy="7086600"/>
            <a:chOff x="0" y="-228600"/>
            <a:chExt cx="9829800" cy="7086600"/>
          </a:xfrm>
        </p:grpSpPr>
        <p:pic>
          <p:nvPicPr>
            <p:cNvPr id="141" name="Picture 3" descr=""/>
            <p:cNvPicPr/>
            <p:nvPr/>
          </p:nvPicPr>
          <p:blipFill>
            <a:blip r:embed="rId1"/>
            <a:srcRect l="23126" t="27002" r="29654" b="16000"/>
            <a:stretch/>
          </p:blipFill>
          <p:spPr>
            <a:xfrm>
              <a:off x="0" y="-39600"/>
              <a:ext cx="9144000" cy="68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4"/>
            <p:cNvSpPr/>
            <p:nvPr/>
          </p:nvSpPr>
          <p:spPr>
            <a:xfrm>
              <a:off x="8229600" y="-228600"/>
              <a:ext cx="1600200" cy="41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Oval 5"/>
          <p:cNvSpPr/>
          <p:nvPr/>
        </p:nvSpPr>
        <p:spPr>
          <a:xfrm>
            <a:off x="1066680" y="380988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6019920" y="990720"/>
            <a:ext cx="8380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4419720" y="5181480"/>
            <a:ext cx="9144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5943600" y="3505320"/>
            <a:ext cx="9144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3733920" y="3276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-5760" y="-96840"/>
            <a:ext cx="63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et’s  do  some  exercises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765000"/>
            <a:ext cx="8763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____   you  going  to do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 ______ going  to  swim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is ,   are  B am ,are C  are ,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____ going  to  have   a  picni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am     B  is     C 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's  going  to 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rain   B raining      C  rain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42160" y="83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126160" y="321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4040" y="49370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380880" y="765000"/>
            <a:ext cx="8763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will the weather be  _____ today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going  B   like C  b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 going   to  be 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snow    B rain   C  cloud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________ warm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be   B  is   C   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237440" y="765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648600" y="4902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474880" y="3078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0"/>
            <a:ext cx="8763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 going   to  be____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snowy    B rain   C  wi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______  are  you  going  to do your  homework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 am  going to do my homework     at half past twelv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What   B   Want  C  Whe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want ___  do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/     B  to    C  going  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582160" y="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97800" y="17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005080" y="5300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谈论天气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以及制订计划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athe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96720" y="1989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en and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e going to d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e going to d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9457"/>
          <p:cNvSpPr/>
          <p:nvPr/>
        </p:nvSpPr>
        <p:spPr>
          <a:xfrm>
            <a:off x="684360" y="40464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talk about a plan(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计划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椭圆 19458"/>
          <p:cNvSpPr/>
          <p:nvPr/>
        </p:nvSpPr>
        <p:spPr>
          <a:xfrm>
            <a:off x="3348000" y="2329200"/>
            <a:ext cx="1655640" cy="73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直接连接符 19459"/>
          <p:cNvSpPr/>
          <p:nvPr/>
        </p:nvSpPr>
        <p:spPr>
          <a:xfrm flipV="1">
            <a:off x="4211640" y="198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直接连接符 19460"/>
          <p:cNvSpPr/>
          <p:nvPr/>
        </p:nvSpPr>
        <p:spPr>
          <a:xfrm flipV="1">
            <a:off x="4932360" y="220500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19461"/>
          <p:cNvSpPr/>
          <p:nvPr/>
        </p:nvSpPr>
        <p:spPr>
          <a:xfrm flipV="1">
            <a:off x="5148360" y="2636640"/>
            <a:ext cx="2156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左大括号 19462"/>
          <p:cNvSpPr/>
          <p:nvPr/>
        </p:nvSpPr>
        <p:spPr>
          <a:xfrm rot="5400000">
            <a:off x="3997440" y="2421000"/>
            <a:ext cx="358560" cy="1800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19463"/>
          <p:cNvSpPr/>
          <p:nvPr/>
        </p:nvSpPr>
        <p:spPr>
          <a:xfrm>
            <a:off x="2700360" y="342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9464"/>
          <p:cNvSpPr/>
          <p:nvPr/>
        </p:nvSpPr>
        <p:spPr>
          <a:xfrm>
            <a:off x="4716360" y="35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直接连接符 19465"/>
          <p:cNvSpPr/>
          <p:nvPr/>
        </p:nvSpPr>
        <p:spPr>
          <a:xfrm flipH="1">
            <a:off x="2556000" y="3789360"/>
            <a:ext cx="2872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直接连接符 19466"/>
          <p:cNvSpPr/>
          <p:nvPr/>
        </p:nvSpPr>
        <p:spPr>
          <a:xfrm>
            <a:off x="2916360" y="3789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直接连接符 19467"/>
          <p:cNvSpPr/>
          <p:nvPr/>
        </p:nvSpPr>
        <p:spPr>
          <a:xfrm>
            <a:off x="2987640" y="3789360"/>
            <a:ext cx="2890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19468"/>
          <p:cNvSpPr/>
          <p:nvPr/>
        </p:nvSpPr>
        <p:spPr>
          <a:xfrm>
            <a:off x="2268360" y="4005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  am  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椭圆 19469"/>
          <p:cNvSpPr/>
          <p:nvPr/>
        </p:nvSpPr>
        <p:spPr>
          <a:xfrm>
            <a:off x="3564000" y="1464480"/>
            <a:ext cx="136980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椭圆 19470"/>
          <p:cNvSpPr/>
          <p:nvPr/>
        </p:nvSpPr>
        <p:spPr>
          <a:xfrm>
            <a:off x="4932360" y="1680480"/>
            <a:ext cx="137016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椭圆 19471"/>
          <p:cNvSpPr/>
          <p:nvPr/>
        </p:nvSpPr>
        <p:spPr>
          <a:xfrm>
            <a:off x="5435640" y="2401200"/>
            <a:ext cx="165744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直接连接符 19472"/>
          <p:cNvSpPr/>
          <p:nvPr/>
        </p:nvSpPr>
        <p:spPr>
          <a:xfrm flipV="1">
            <a:off x="6372360" y="1699920"/>
            <a:ext cx="2156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9473"/>
          <p:cNvSpPr/>
          <p:nvPr/>
        </p:nvSpPr>
        <p:spPr>
          <a:xfrm>
            <a:off x="658800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/…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直接连接符 19474"/>
          <p:cNvSpPr/>
          <p:nvPr/>
        </p:nvSpPr>
        <p:spPr>
          <a:xfrm flipH="1" flipV="1">
            <a:off x="2916000" y="2565000"/>
            <a:ext cx="36036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19475"/>
          <p:cNvSpPr/>
          <p:nvPr/>
        </p:nvSpPr>
        <p:spPr>
          <a:xfrm>
            <a:off x="1476360" y="2185200"/>
            <a:ext cx="137016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直接连接符 19476"/>
          <p:cNvSpPr/>
          <p:nvPr/>
        </p:nvSpPr>
        <p:spPr>
          <a:xfrm flipH="1" flipV="1">
            <a:off x="3347640" y="2133720"/>
            <a:ext cx="14292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椭圆 19477"/>
          <p:cNvSpPr/>
          <p:nvPr/>
        </p:nvSpPr>
        <p:spPr>
          <a:xfrm>
            <a:off x="2124000" y="1608840"/>
            <a:ext cx="137016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9479"/>
          <p:cNvSpPr/>
          <p:nvPr/>
        </p:nvSpPr>
        <p:spPr>
          <a:xfrm>
            <a:off x="279360" y="4854600"/>
            <a:ext cx="87152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orrow we’re going to go to______. We’re going to at_____. We’re going to get there by _____. We’re going to ____________. It will____________. We’re going to have a good time at the weeken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3695760" y="4402080"/>
            <a:ext cx="26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   Pl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4"/>
          <p:cNvSpPr txBox="1"/>
          <p:nvPr/>
        </p:nvSpPr>
        <p:spPr>
          <a:xfrm>
            <a:off x="1403280" y="260280"/>
            <a:ext cx="56880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OMEWORK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89" name="片尾音乐.mid" descr=""/>
          <p:cNvPicPr/>
          <p:nvPr/>
        </p:nvPicPr>
        <p:blipFill>
          <a:blip r:embed="rId2"/>
          <a:stretch/>
        </p:blipFill>
        <p:spPr>
          <a:xfrm>
            <a:off x="7738920" y="5583240"/>
            <a:ext cx="287640" cy="27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花"/>
          <p:cNvPicPr/>
          <p:nvPr/>
        </p:nvPicPr>
        <p:blipFill>
          <a:blip r:embed="rId3"/>
          <a:stretch/>
        </p:blipFill>
        <p:spPr>
          <a:xfrm>
            <a:off x="755640" y="5300640"/>
            <a:ext cx="2808360" cy="10159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187280" y="2276640"/>
            <a:ext cx="70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抄写新单词每个十遍，并进行默写，家长签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成小练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Listen   to  CCTV weather report . And make  a weather forecast  news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-141840" y="1219320"/>
            <a:ext cx="898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eather symbol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Comic Sans MS"/>
              </a:rPr>
              <a:t>天气符号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rw_019"/>
          <p:cNvPicPr/>
          <p:nvPr/>
        </p:nvPicPr>
        <p:blipFill>
          <a:blip r:embed="rId1"/>
          <a:stretch/>
        </p:blipFill>
        <p:spPr>
          <a:xfrm>
            <a:off x="2627280" y="3573360"/>
            <a:ext cx="27367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24186" t="31348" r="68752" b="60003"/>
          <a:stretch/>
        </p:blipFill>
        <p:spPr>
          <a:xfrm>
            <a:off x="1295280" y="0"/>
            <a:ext cx="5715000" cy="437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371600" y="43876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rain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8128" t="45255" r="76877" b="46511"/>
          <a:stretch/>
        </p:blipFill>
        <p:spPr>
          <a:xfrm>
            <a:off x="1981080" y="304920"/>
            <a:ext cx="48085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371600" y="4387680"/>
            <a:ext cx="8001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snow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342" t="62365" r="74320" b="29000"/>
          <a:stretch/>
        </p:blipFill>
        <p:spPr>
          <a:xfrm>
            <a:off x="1692360" y="0"/>
            <a:ext cx="550368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371600" y="43876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wind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44103" t="44003" r="51250" b="48004"/>
          <a:stretch/>
        </p:blipFill>
        <p:spPr>
          <a:xfrm>
            <a:off x="1752480" y="-15228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371600" y="43876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sunn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01"/>
          <p:cNvPicPr/>
          <p:nvPr/>
        </p:nvPicPr>
        <p:blipFill>
          <a:blip r:embed="rId1"/>
          <a:stretch/>
        </p:blipFill>
        <p:spPr>
          <a:xfrm>
            <a:off x="2340000" y="476280"/>
            <a:ext cx="4608360" cy="3744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763640" y="4005360"/>
            <a:ext cx="6629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cloud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7:44Z</dcterms:created>
  <dc:creator>11</dc:creator>
  <dc:description/>
  <cp:keywords/>
  <dc:language>en-US</dc:language>
  <cp:lastModifiedBy>hppp</cp:lastModifiedBy>
  <dcterms:modified xsi:type="dcterms:W3CDTF">2017-03-20T08:15:28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