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png" ContentType="image/png"/>
  <Override PartName="/ppt/media/image13.jpeg" ContentType="image/jpeg"/>
  <Override PartName="/ppt/media/image12.png" ContentType="image/png"/>
  <Override PartName="/ppt/media/image1.png" ContentType="image/png"/>
  <Override PartName="/ppt/media/%E6%AD%A3%E7%A1%AE.WAV" ContentType="audio/x-wav"/>
  <Override PartName="/ppt/media/chimes.wav" ContentType="audio/x-wav"/>
  <Override PartName="/ppt/media/image6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58D2-EB6B-4A59-BD0E-70D89697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7BA3-0745-4E60-8045-84022776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A067-991E-4045-9BBB-8D2337EF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B71B-FDDE-4181-8328-D42250A7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A878-4ECE-44A3-893B-FF309664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153A-1761-487C-AAE0-9C8E7486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0F2A-2A70-4AF5-AD1B-2963157C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294D-D7CC-48D9-80FE-76FA7BD6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F72D-2C1D-4E82-A064-E75BCE24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D1F3-2D80-4469-9761-2DF5FA5B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3C3D-E360-4668-BAE1-0BF006EC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2430-03C7-42E1-8DB4-BBE10D47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E406-2CE9-4177-8606-653F9DC6FE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&#27491;&#30830;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1.3lian.com/img2011/w1/104/25/d/130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&#27491;&#30830;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&#27491;&#30830;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2637000"/>
            <a:ext cx="640872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采松果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0920" y="404640"/>
            <a:ext cx="5133960" cy="5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北师大版一年级数学下册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AD%A3%E7%A1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228600"/>
            <a:ext cx="17524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2286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做一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400800" y="2743200"/>
            <a:ext cx="2743200" cy="4114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114800" y="5029200"/>
            <a:ext cx="2362320" cy="1828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2133720" y="3276720"/>
            <a:ext cx="4343400" cy="885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971800" y="34290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35053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34290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34290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0" y="3048120"/>
            <a:ext cx="1905120" cy="2743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5280" y="1268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恐龙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126828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恐龙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08360" y="198900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大恐龙比小恐龙长多少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6600"/>
            <a:ext cx="9240840" cy="6791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3333600" y="2060640"/>
            <a:ext cx="3686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竞赛</a:t>
            </a:r>
            <a:endParaRPr b="1" lang="en-US" sz="9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565200"/>
            <a:ext cx="8748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个十是（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5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是由（     ）个十和（   ）个一组成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个十是（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个十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个一合起来是（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个十减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个十是（     ）个十，是（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5600" cy="4172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40360" y="3213000"/>
            <a:ext cx="1152720" cy="503280"/>
          </a:xfrm>
          <a:prstGeom prst="rect">
            <a:avLst/>
          </a:prstGeom>
          <a:solidFill>
            <a:srgbClr val="f9df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3213000"/>
            <a:ext cx="1079280" cy="576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3213000"/>
            <a:ext cx="1368720" cy="576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4292640"/>
            <a:ext cx="82090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一共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采了多少个松果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5157720"/>
            <a:ext cx="8424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松鼠妈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比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小松鼠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采了多少个松果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AD%A3%E7%A1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5600" cy="4172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940360" y="3213000"/>
            <a:ext cx="1152720" cy="503280"/>
          </a:xfrm>
          <a:prstGeom prst="rect">
            <a:avLst/>
          </a:prstGeom>
          <a:solidFill>
            <a:srgbClr val="f9df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32000" y="3213000"/>
            <a:ext cx="1079280" cy="576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3213000"/>
            <a:ext cx="1368720" cy="576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292640"/>
            <a:ext cx="82090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一共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采了多少个松果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35280" y="515772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25 + 4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8920" y="51577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29(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1280" y="189000"/>
            <a:ext cx="820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一共采了多少个松果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3080" y="184464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25 + 4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76720" y="18446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29(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3357720"/>
            <a:ext cx="5257800" cy="2232000"/>
          </a:xfrm>
          <a:prstGeom prst="cloudCallout">
            <a:avLst>
              <a:gd name="adj1" fmla="val 61203"/>
              <a:gd name="adj2" fmla="val 5177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375300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先算 </a:t>
            </a:r>
            <a:r>
              <a:rPr b="0" lang="zh-CN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5 + 4 =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24000" y="438300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再算 </a:t>
            </a:r>
            <a:r>
              <a:rPr b="0" lang="zh-CN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20 + 9 = 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596360" y="5157720"/>
            <a:ext cx="1325520" cy="1486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2626920" y="2565360"/>
            <a:ext cx="28908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7640" y="2565360"/>
            <a:ext cx="28908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2781360"/>
            <a:ext cx="22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20  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AD%A3%E7%A1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42920" y="1052640"/>
            <a:ext cx="65534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2+3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51+7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5600" cy="4172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940360" y="3213000"/>
            <a:ext cx="1152720" cy="503280"/>
          </a:xfrm>
          <a:prstGeom prst="rect">
            <a:avLst/>
          </a:prstGeom>
          <a:solidFill>
            <a:srgbClr val="f9df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32000" y="3213000"/>
            <a:ext cx="1079280" cy="576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213000"/>
            <a:ext cx="1368720" cy="576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4437000"/>
            <a:ext cx="8424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松鼠妈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比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小松鼠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采了多少个松果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92360" y="5446800"/>
            <a:ext cx="5638680" cy="1295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33560" y="569124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32120" y="561816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22840" y="561816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78600" y="569124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68-3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46-5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62320" y="4343400"/>
            <a:ext cx="44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还剩多少个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3505320"/>
            <a:ext cx="3124080" cy="685800"/>
          </a:xfrm>
          <a:prstGeom prst="cloudCallout">
            <a:avLst>
              <a:gd name="adj1" fmla="val -60824"/>
              <a:gd name="adj2" fmla="val 54398"/>
            </a:avLst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我吃了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304920"/>
            <a:ext cx="2743200" cy="598320"/>
          </a:xfrm>
          <a:prstGeom prst="cloudCallout">
            <a:avLst>
              <a:gd name="adj1" fmla="val 17592"/>
              <a:gd name="adj2" fmla="val 38861"/>
            </a:avLst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原来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9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00200" cy="76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920" y="3200400"/>
            <a:ext cx="152388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411280" y="907920"/>
            <a:ext cx="4114800" cy="2438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979640" y="5300640"/>
            <a:ext cx="4724280" cy="914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564000" y="551664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95640" y="551664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88000" y="551664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87640" y="55166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2T22:05:21Z</dcterms:created>
  <dc:creator>未知用户</dc:creator>
  <dc:description/>
  <dc:language>en-US</dc:language>
  <cp:lastModifiedBy>admin</cp:lastModifiedBy>
  <dcterms:modified xsi:type="dcterms:W3CDTF">2016-04-20T14:44:18Z</dcterms:modified>
  <cp:revision>10</cp:revision>
  <dc:subject/>
  <dc:title>幻灯片 1</dc:title>
</cp:coreProperties>
</file>