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.gif" ContentType="image/gif"/>
  <Override PartName="/ppt/media/image2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8.png" ContentType="image/png"/>
  <Override PartName="/ppt/media/image16.png" ContentType="image/png"/>
  <Override PartName="/ppt/media/image25.png" ContentType="image/png"/>
  <Override PartName="/ppt/media/image19.jpeg" ContentType="image/jpeg"/>
  <Override PartName="/ppt/media/image28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1.jpeg" ContentType="image/jpeg"/>
  <Override PartName="/ppt/media/suction.wav" ContentType="audio/x-wav"/>
  <Override PartName="/ppt/media/image39.png" ContentType="image/pn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F61-0235-479C-92B6-F537BE10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77C-4FC3-400E-9A87-C6B58A78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1B9-6827-463F-8012-220339BB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631-AE74-4E1E-BDF7-45A96DD2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270-E9BE-496A-9EA8-93C8270F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6C7-18F8-4E41-A21C-8E2AB22D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D54-AE63-4A89-8A19-793AF0DB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E82-3460-4666-A8CA-ED28FE83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0CD-1B55-424A-BBA1-BBA257AD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E1FC-DF03-4F48-AE20-63DD005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A24-CCB8-40B4-A4C2-55AE5908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204-E396-412F-843E-24A63BAC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0E9A-8CD6-4E44-B956-3B91F0D83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&#22823;&#35838;&#25991;&#26080;&#23383;&#24149;.mp4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&#22823;&#35838;&#25991;.mp4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ifbj06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9"/>
          <p:cNvPicPr/>
          <p:nvPr/>
        </p:nvPicPr>
        <p:blipFill>
          <a:blip r:embed="rId1"/>
          <a:stretch/>
        </p:blipFill>
        <p:spPr>
          <a:xfrm>
            <a:off x="1187280" y="476280"/>
            <a:ext cx="6604200" cy="3551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619280" y="436572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he works in a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he’s a librar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9"/>
          <p:cNvPicPr/>
          <p:nvPr/>
        </p:nvPicPr>
        <p:blipFill>
          <a:blip r:embed="rId1"/>
          <a:stretch/>
        </p:blipFill>
        <p:spPr>
          <a:xfrm>
            <a:off x="6480000" y="0"/>
            <a:ext cx="2664000" cy="1700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79280" y="1989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librarians do in the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1.wmv" descr="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9"/>
          <p:cNvPicPr/>
          <p:nvPr/>
        </p:nvPicPr>
        <p:blipFill>
          <a:blip r:embed="rId1"/>
          <a:stretch/>
        </p:blipFill>
        <p:spPr>
          <a:xfrm>
            <a:off x="6480000" y="0"/>
            <a:ext cx="2664000" cy="1700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79280" y="1989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librarians do in the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0920" y="2708280"/>
            <a:ext cx="8893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多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help us look for 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寻找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 the books or DV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sell the books an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VD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tell us to give the books or DVDs back in time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及时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read the books in the libr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3132000" y="5084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7308720" y="5084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 flipH="1" rot="16183200">
            <a:off x="5366880" y="3351600"/>
            <a:ext cx="216000" cy="3827520"/>
          </a:xfrm>
          <a:custGeom>
            <a:avLst/>
            <a:gdLst>
              <a:gd name="textAreaLeft" fmla="*/ 360 w 216000"/>
              <a:gd name="textAreaRight" fmla="*/ 78480 w 216000"/>
              <a:gd name="textAreaTop" fmla="*/ 99720 h 3827520"/>
              <a:gd name="textAreaBottom" fmla="*/ 3727800 h 382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076720" y="5229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归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22"/>
          <p:cNvPicPr/>
          <p:nvPr/>
        </p:nvPicPr>
        <p:blipFill>
          <a:blip r:embed="rId1"/>
          <a:stretch/>
        </p:blipFill>
        <p:spPr>
          <a:xfrm>
            <a:off x="611280" y="115920"/>
            <a:ext cx="2628720" cy="261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22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VD"/>
          <p:cNvPicPr/>
          <p:nvPr/>
        </p:nvPicPr>
        <p:blipFill>
          <a:blip r:embed="rId3"/>
          <a:stretch/>
        </p:blipFill>
        <p:spPr>
          <a:xfrm>
            <a:off x="2627280" y="371628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VDS"/>
          <p:cNvPicPr/>
          <p:nvPr/>
        </p:nvPicPr>
        <p:blipFill>
          <a:blip r:embed="rId4"/>
          <a:stretch/>
        </p:blipFill>
        <p:spPr>
          <a:xfrm>
            <a:off x="4427640" y="3716280"/>
            <a:ext cx="2376360" cy="2305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1403280" y="2852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659640" y="285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916360" y="6093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rry Potter 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9"/>
          <p:cNvPicPr/>
          <p:nvPr/>
        </p:nvPicPr>
        <p:blipFill>
          <a:blip r:embed="rId1"/>
          <a:stretch/>
        </p:blipFill>
        <p:spPr>
          <a:xfrm>
            <a:off x="6480000" y="0"/>
            <a:ext cx="2664000" cy="1700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79280" y="1989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librarians do in the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2708280"/>
            <a:ext cx="8893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多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help us look for 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寻找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 the books or DV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sell the books an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VD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tell us to give the books or DVDs back in time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及时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y read the books in the libr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3132000" y="5084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7308720" y="5084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 flipH="1" rot="16183200">
            <a:off x="5366880" y="3351600"/>
            <a:ext cx="216000" cy="3827520"/>
          </a:xfrm>
          <a:custGeom>
            <a:avLst/>
            <a:gdLst>
              <a:gd name="textAreaLeft" fmla="*/ 360 w 216000"/>
              <a:gd name="textAreaRight" fmla="*/ 78480 w 216000"/>
              <a:gd name="textAreaTop" fmla="*/ 99720 h 3827520"/>
              <a:gd name="textAreaBottom" fmla="*/ 3727800 h 382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076720" y="5229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归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11280" y="26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66"/>
          <p:cNvPicPr/>
          <p:nvPr/>
        </p:nvPicPr>
        <p:blipFill>
          <a:blip r:embed="rId1"/>
          <a:stretch/>
        </p:blipFill>
        <p:spPr>
          <a:xfrm>
            <a:off x="0" y="2708280"/>
            <a:ext cx="5364000" cy="34574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2843280" y="260280"/>
            <a:ext cx="4753080" cy="1943280"/>
          </a:xfrm>
          <a:prstGeom prst="cloudCallout">
            <a:avLst>
              <a:gd name="adj1" fmla="val -52106"/>
              <a:gd name="adj2" fmla="val 148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got the Harry Potter DV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4788000" y="2421000"/>
            <a:ext cx="4608360" cy="1655640"/>
          </a:xfrm>
          <a:prstGeom prst="cloudCallout">
            <a:avLst>
              <a:gd name="adj1" fmla="val -68393"/>
              <a:gd name="adj2" fmla="val 5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.wmv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9912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66"/>
          <p:cNvPicPr/>
          <p:nvPr/>
        </p:nvPicPr>
        <p:blipFill>
          <a:blip r:embed="rId1"/>
          <a:stretch/>
        </p:blipFill>
        <p:spPr>
          <a:xfrm>
            <a:off x="0" y="2708280"/>
            <a:ext cx="5364000" cy="34574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"/>
          <p:cNvSpPr/>
          <p:nvPr/>
        </p:nvSpPr>
        <p:spPr>
          <a:xfrm>
            <a:off x="2843280" y="260280"/>
            <a:ext cx="4753080" cy="1943280"/>
          </a:xfrm>
          <a:prstGeom prst="cloudCallout">
            <a:avLst>
              <a:gd name="adj1" fmla="val -52106"/>
              <a:gd name="adj2" fmla="val 148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got the Harry Potter DV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788000" y="2421000"/>
            <a:ext cx="4608360" cy="1655640"/>
          </a:xfrm>
          <a:prstGeom prst="cloudCallout">
            <a:avLst>
              <a:gd name="adj1" fmla="val -68393"/>
              <a:gd name="adj2" fmla="val 5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ry, we haven’t got the DV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472000" y="4365720"/>
            <a:ext cx="3672000" cy="1296720"/>
          </a:xfrm>
          <a:prstGeom prst="cloudCallout">
            <a:avLst>
              <a:gd name="adj1" fmla="val -85666"/>
              <a:gd name="adj2" fmla="val -42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have got th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66"/>
          <p:cNvPicPr/>
          <p:nvPr/>
        </p:nvPicPr>
        <p:blipFill>
          <a:blip r:embed="rId1"/>
          <a:stretch/>
        </p:blipFill>
        <p:spPr>
          <a:xfrm>
            <a:off x="0" y="2708280"/>
            <a:ext cx="5364000" cy="34574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2124000" y="404640"/>
            <a:ext cx="4824360" cy="1440000"/>
          </a:xfrm>
          <a:prstGeom prst="cloudCallout">
            <a:avLst>
              <a:gd name="adj1" fmla="val -43648"/>
              <a:gd name="adj2" fmla="val 221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4500720" y="1916280"/>
            <a:ext cx="4319280" cy="1800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m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礼物"/>
          <p:cNvPicPr/>
          <p:nvPr/>
        </p:nvPicPr>
        <p:blipFill>
          <a:blip r:embed="rId1"/>
          <a:stretch/>
        </p:blipFill>
        <p:spPr>
          <a:xfrm>
            <a:off x="2771640" y="1628640"/>
            <a:ext cx="3611520" cy="3611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ifbj061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4"/>
          <p:cNvSpPr/>
          <p:nvPr/>
        </p:nvSpPr>
        <p:spPr>
          <a:xfrm>
            <a:off x="755640" y="333360"/>
            <a:ext cx="2808360" cy="201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348000" y="155736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427640" y="1268280"/>
            <a:ext cx="2449440" cy="5205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（某人）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547640" y="2708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b sth = show sth to 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291636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9236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558000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665964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556000" y="357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某人  某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219640" y="35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某物            某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900000" y="4076640"/>
            <a:ext cx="77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show my teacher the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show the homework to my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071600" y="4581360"/>
            <a:ext cx="91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66"/>
          <p:cNvPicPr/>
          <p:nvPr/>
        </p:nvPicPr>
        <p:blipFill>
          <a:blip r:embed="rId1"/>
          <a:stretch/>
        </p:blipFill>
        <p:spPr>
          <a:xfrm>
            <a:off x="0" y="2708280"/>
            <a:ext cx="5364000" cy="34574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"/>
          <p:cNvSpPr/>
          <p:nvPr/>
        </p:nvSpPr>
        <p:spPr>
          <a:xfrm>
            <a:off x="2124000" y="404640"/>
            <a:ext cx="4680000" cy="1440000"/>
          </a:xfrm>
          <a:prstGeom prst="cloudCallout">
            <a:avLst>
              <a:gd name="adj1" fmla="val -43453"/>
              <a:gd name="adj2" fmla="val 221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500720" y="1916280"/>
            <a:ext cx="4319280" cy="1800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m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78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3"/>
          <p:cNvSpPr txBox="1"/>
          <p:nvPr/>
        </p:nvSpPr>
        <p:spPr>
          <a:xfrm>
            <a:off x="900000" y="0"/>
            <a:ext cx="4524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Read and answer 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1484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1: Are there lots of Harry Potter book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2: What  will they show to the librari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3: When will they give the books bac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84360" y="2205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Yes, there are.      B. No, there are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11280" y="3716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The bus card.      B. The library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55640" y="522936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In five days.         B.In two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84360" y="2421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9999"/>
          <p:cNvPicPr/>
          <p:nvPr/>
        </p:nvPicPr>
        <p:blipFill>
          <a:blip r:embed="rId1"/>
          <a:stretch/>
        </p:blipFill>
        <p:spPr>
          <a:xfrm>
            <a:off x="0" y="0"/>
            <a:ext cx="9396360" cy="674856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2484360" y="333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1835280" y="692280"/>
            <a:ext cx="252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08000" y="1341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835280" y="1052640"/>
            <a:ext cx="57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2195640" y="0"/>
            <a:ext cx="1655640" cy="5493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140360" y="981000"/>
            <a:ext cx="3456000" cy="64260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ou have 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3348000" y="333360"/>
            <a:ext cx="647640" cy="7192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09"/>
          <p:cNvPicPr/>
          <p:nvPr/>
        </p:nvPicPr>
        <p:blipFill>
          <a:blip r:embed="rId1">
            <a:alphaModFix amt="29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3"/>
          <p:cNvSpPr/>
          <p:nvPr/>
        </p:nvSpPr>
        <p:spPr>
          <a:xfrm>
            <a:off x="1763640" y="0"/>
            <a:ext cx="5329440" cy="1871640"/>
          </a:xfrm>
          <a:prstGeom prst="cloudCallout">
            <a:avLst>
              <a:gd name="adj1" fmla="val -61319"/>
              <a:gd name="adj2" fmla="val 66115"/>
            </a:avLst>
          </a:prstGeom>
          <a:solidFill>
            <a:srgbClr val="ff99cc">
              <a:alpha val="43000"/>
            </a:srgbClr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2627280" y="189000"/>
            <a:ext cx="36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et's chant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7280" y="2492280"/>
            <a:ext cx="885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’ve got,  you’ve got,  we  / 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have go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e’s got,  he’s got , it  /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has g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wedding_803"/>
          <p:cNvPicPr/>
          <p:nvPr/>
        </p:nvPicPr>
        <p:blipFill>
          <a:blip r:embed="rId1"/>
          <a:stretch/>
        </p:blipFill>
        <p:spPr>
          <a:xfrm>
            <a:off x="-1620720" y="-219240"/>
            <a:ext cx="11505960" cy="7077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0"/>
            <a:ext cx="85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3280" y="40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ve got , has 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539640" y="1484280"/>
            <a:ext cx="7236000" cy="6198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I  ________  an English book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_____ you _____ a basket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She _________ a new ba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403280" y="141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have 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42920" y="227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Have            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050920" y="3141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has g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9999"/>
          <p:cNvPicPr/>
          <p:nvPr/>
        </p:nvPicPr>
        <p:blipFill>
          <a:blip r:embed="rId1"/>
          <a:stretch/>
        </p:blipFill>
        <p:spPr>
          <a:xfrm>
            <a:off x="0" y="0"/>
            <a:ext cx="9396360" cy="674856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2484360" y="333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1835280" y="692280"/>
            <a:ext cx="252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1908000" y="1341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1835280" y="1052640"/>
            <a:ext cx="57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2" descr="78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57" name="WordArt 3"/>
          <p:cNvSpPr txBox="1"/>
          <p:nvPr/>
        </p:nvSpPr>
        <p:spPr>
          <a:xfrm>
            <a:off x="900000" y="0"/>
            <a:ext cx="4524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Read and answer 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0" y="1484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1: Are there lots of Harry Potter book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2: What  will they show to the librari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3: When will they give the books bac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84360" y="2205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Yes, there are.      B. No, there are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11280" y="3716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The bus card.      B. The library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55640" y="522936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In five days.         B.In two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84360" y="2421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995640" y="386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图书卡"/>
          <p:cNvPicPr/>
          <p:nvPr/>
        </p:nvPicPr>
        <p:blipFill>
          <a:blip r:embed="rId2"/>
          <a:stretch/>
        </p:blipFill>
        <p:spPr>
          <a:xfrm>
            <a:off x="7380360" y="3500280"/>
            <a:ext cx="14572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9999"/>
          <p:cNvPicPr/>
          <p:nvPr/>
        </p:nvPicPr>
        <p:blipFill>
          <a:blip r:embed="rId1"/>
          <a:stretch/>
        </p:blipFill>
        <p:spPr>
          <a:xfrm>
            <a:off x="0" y="0"/>
            <a:ext cx="9396360" cy="6748560"/>
          </a:xfrm>
          <a:prstGeom prst="rect">
            <a:avLst/>
          </a:prstGeom>
          <a:ln w="0">
            <a:noFill/>
          </a:ln>
        </p:spPr>
      </p:pic>
      <p:sp>
        <p:nvSpPr>
          <p:cNvPr id="168" name="Line 5"/>
          <p:cNvSpPr/>
          <p:nvPr/>
        </p:nvSpPr>
        <p:spPr>
          <a:xfrm>
            <a:off x="2484360" y="333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1835280" y="692280"/>
            <a:ext cx="252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908000" y="1341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835280" y="1052640"/>
            <a:ext cx="57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6516720" y="4292640"/>
            <a:ext cx="216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6516720" y="4653000"/>
            <a:ext cx="9349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2" descr="78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75" name="WordArt 3"/>
          <p:cNvSpPr txBox="1"/>
          <p:nvPr/>
        </p:nvSpPr>
        <p:spPr>
          <a:xfrm>
            <a:off x="900000" y="0"/>
            <a:ext cx="4524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Read and answer 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1484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1: Are there lots of Harry Potter book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2: What  will they show to the librarian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3: When will they give the books back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84360" y="2205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Yes, there are.      B. No, there are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1280" y="3716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The bus card.      B. The library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55640" y="522936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A. In five days.         B.In two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84360" y="2421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995640" y="386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211640" y="54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3" descr="图书卡"/>
          <p:cNvPicPr/>
          <p:nvPr/>
        </p:nvPicPr>
        <p:blipFill>
          <a:blip r:embed="rId2"/>
          <a:stretch/>
        </p:blipFill>
        <p:spPr>
          <a:xfrm>
            <a:off x="7308720" y="3500280"/>
            <a:ext cx="16192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90"/>
          <p:cNvPicPr/>
          <p:nvPr/>
        </p:nvPicPr>
        <p:blipFill>
          <a:blip r:embed="rId1"/>
          <a:stretch/>
        </p:blipFill>
        <p:spPr>
          <a:xfrm>
            <a:off x="1763640" y="404640"/>
            <a:ext cx="54007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9999"/>
          <p:cNvPicPr/>
          <p:nvPr/>
        </p:nvPicPr>
        <p:blipFill>
          <a:blip r:embed="rId1"/>
          <a:stretch/>
        </p:blipFill>
        <p:spPr>
          <a:xfrm>
            <a:off x="0" y="0"/>
            <a:ext cx="9396360" cy="6748560"/>
          </a:xfrm>
          <a:prstGeom prst="rect">
            <a:avLst/>
          </a:prstGeom>
          <a:ln w="0">
            <a:noFill/>
          </a:ln>
        </p:spPr>
      </p:pic>
      <p:sp>
        <p:nvSpPr>
          <p:cNvPr id="187" name="Line 5"/>
          <p:cNvSpPr/>
          <p:nvPr/>
        </p:nvSpPr>
        <p:spPr>
          <a:xfrm>
            <a:off x="2484360" y="333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835280" y="692280"/>
            <a:ext cx="252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1908000" y="1341360"/>
            <a:ext cx="165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835280" y="1052640"/>
            <a:ext cx="57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6516720" y="4292640"/>
            <a:ext cx="216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6516720" y="4653000"/>
            <a:ext cx="9349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6588000" y="5300640"/>
            <a:ext cx="187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6516720" y="5661000"/>
            <a:ext cx="1800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6659640" y="5950080"/>
            <a:ext cx="1297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WordArt 7" descr=""/>
          <p:cNvPicPr/>
          <p:nvPr/>
        </p:nvPicPr>
        <p:blipFill>
          <a:blip r:embed="rId1"/>
          <a:stretch/>
        </p:blipFill>
        <p:spPr>
          <a:xfrm>
            <a:off x="549360" y="969840"/>
            <a:ext cx="7583400" cy="3930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gifbj061"/>
          <p:cNvPicPr/>
          <p:nvPr/>
        </p:nvPicPr>
        <p:blipFill>
          <a:blip r:embed="rId2"/>
          <a:stretch/>
        </p:blipFill>
        <p:spPr>
          <a:xfrm>
            <a:off x="0" y="3429000"/>
            <a:ext cx="896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WordArt 7" descr=""/>
          <p:cNvPicPr/>
          <p:nvPr/>
        </p:nvPicPr>
        <p:blipFill>
          <a:blip r:embed="rId1"/>
          <a:stretch/>
        </p:blipFill>
        <p:spPr>
          <a:xfrm>
            <a:off x="1427040" y="1371600"/>
            <a:ext cx="5832720" cy="3297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gifbj061"/>
          <p:cNvPicPr/>
          <p:nvPr/>
        </p:nvPicPr>
        <p:blipFill>
          <a:blip r:embed="rId2"/>
          <a:stretch/>
        </p:blipFill>
        <p:spPr>
          <a:xfrm>
            <a:off x="0" y="3429000"/>
            <a:ext cx="896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gifbj06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685800" y="106200"/>
            <a:ext cx="8001000" cy="642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listen !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练一练我们的听力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5640" y="3213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have got the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55640" y="134136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you got the Harry Potter DV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611280" y="407664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ve got lots of Harry Potter books 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84360" y="2276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ry, we haven’t got the DV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1.mp3" descr=""/>
          <p:cNvPicPr/>
          <p:nvPr/>
        </p:nvPicPr>
        <p:blipFill>
          <a:blip r:embed="rId2"/>
          <a:stretch/>
        </p:blipFill>
        <p:spPr>
          <a:xfrm>
            <a:off x="7164360" y="119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07" name="2.mp3" descr=""/>
          <p:cNvPicPr/>
          <p:nvPr/>
        </p:nvPicPr>
        <p:blipFill>
          <a:blip r:embed="rId3"/>
          <a:stretch/>
        </p:blipFill>
        <p:spPr>
          <a:xfrm>
            <a:off x="6227640" y="22050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08" name="3.mp3" descr=""/>
          <p:cNvPicPr/>
          <p:nvPr/>
        </p:nvPicPr>
        <p:blipFill>
          <a:blip r:embed="rId4"/>
          <a:stretch/>
        </p:blipFill>
        <p:spPr>
          <a:xfrm>
            <a:off x="5796000" y="3141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09" name="4.mp3" descr=""/>
          <p:cNvPicPr/>
          <p:nvPr/>
        </p:nvPicPr>
        <p:blipFill>
          <a:blip r:embed="rId5"/>
          <a:stretch/>
        </p:blipFill>
        <p:spPr>
          <a:xfrm>
            <a:off x="7451640" y="4005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10" name="5.mp3" descr=""/>
          <p:cNvPicPr/>
          <p:nvPr/>
        </p:nvPicPr>
        <p:blipFill>
          <a:blip r:embed="rId6"/>
          <a:stretch/>
        </p:blipFill>
        <p:spPr>
          <a:xfrm>
            <a:off x="3851280" y="486900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684360" y="4869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we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3814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4807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4075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5068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355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55"/>
          <p:cNvPicPr/>
          <p:nvPr/>
        </p:nvPicPr>
        <p:blipFill>
          <a:blip r:embed="rId1"/>
          <a:stretch/>
        </p:blipFill>
        <p:spPr>
          <a:xfrm>
            <a:off x="1476360" y="2637000"/>
            <a:ext cx="5600880" cy="376236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5"/>
          <p:cNvSpPr/>
          <p:nvPr/>
        </p:nvSpPr>
        <p:spPr>
          <a:xfrm>
            <a:off x="0" y="765000"/>
            <a:ext cx="4427640" cy="1511640"/>
          </a:xfrm>
          <a:prstGeom prst="wedgeEllipseCallout">
            <a:avLst>
              <a:gd name="adj1" fmla="val 24254"/>
              <a:gd name="adj2" fmla="val 128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se me. Have you got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4643280" y="620640"/>
            <a:ext cx="4321440" cy="1511280"/>
          </a:xfrm>
          <a:prstGeom prst="wedgeEllipseCallout">
            <a:avLst>
              <a:gd name="adj1" fmla="val -17523"/>
              <a:gd name="adj2" fmla="val 141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have.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we hav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332000" y="189000"/>
            <a:ext cx="6335640" cy="1439640"/>
          </a:xfrm>
          <a:custGeom>
            <a:avLst/>
            <a:gdLst>
              <a:gd name="textAreaLeft" fmla="*/ 1584000 w 6335640"/>
              <a:gd name="textAreaRight" fmla="*/ 4752000 w 6335640"/>
              <a:gd name="textAreaTop" fmla="*/ 18000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3"/>
          <p:cNvSpPr txBox="1"/>
          <p:nvPr/>
        </p:nvSpPr>
        <p:spPr>
          <a:xfrm>
            <a:off x="3708360" y="4762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ask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7" name="Picture 3" descr="gifbj061"/>
          <p:cNvPicPr/>
          <p:nvPr/>
        </p:nvPicPr>
        <p:blipFill>
          <a:blip r:embed="rId1"/>
          <a:stretch/>
        </p:blipFill>
        <p:spPr>
          <a:xfrm>
            <a:off x="0" y="3546360"/>
            <a:ext cx="9144000" cy="3311640"/>
          </a:xfrm>
          <a:prstGeom prst="rect">
            <a:avLst/>
          </a:prstGeom>
          <a:ln w="0">
            <a:noFill/>
          </a:ln>
        </p:spPr>
      </p:pic>
      <p:pic>
        <p:nvPicPr>
          <p:cNvPr id="218" name="WordArt 5" descr=""/>
          <p:cNvPicPr/>
          <p:nvPr/>
        </p:nvPicPr>
        <p:blipFill>
          <a:blip r:embed="rId2"/>
          <a:stretch/>
        </p:blipFill>
        <p:spPr>
          <a:xfrm>
            <a:off x="237960" y="2341440"/>
            <a:ext cx="8766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1" descr="67"/>
          <p:cNvPicPr/>
          <p:nvPr/>
        </p:nvPicPr>
        <p:blipFill>
          <a:blip r:embed="rId1"/>
          <a:stretch/>
        </p:blipFill>
        <p:spPr>
          <a:xfrm>
            <a:off x="6499080" y="4797360"/>
            <a:ext cx="2644920" cy="2060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1187280" y="364500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: I’ve got a book about animal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ls are my favou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3419640" y="2637000"/>
            <a:ext cx="2447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1908000" y="3357720"/>
            <a:ext cx="136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403280" y="2060640"/>
            <a:ext cx="554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: I’ve got a Maths 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s is my favou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3276720" y="4221000"/>
            <a:ext cx="3816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1835280" y="4941720"/>
            <a:ext cx="1439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250920" y="62280"/>
            <a:ext cx="8508960" cy="1767600"/>
          </a:xfrm>
          <a:prstGeom prst="horizontalScroll">
            <a:avLst>
              <a:gd name="adj" fmla="val 12500"/>
            </a:avLst>
          </a:prstGeom>
          <a:solidFill>
            <a:srgbClr val="ff99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音乐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e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科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美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故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诗歌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iom story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语故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寓言故事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       se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海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           c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0"/>
          <p:cNvSpPr/>
          <p:nvPr/>
        </p:nvSpPr>
        <p:spPr>
          <a:xfrm>
            <a:off x="1692360" y="1180440"/>
            <a:ext cx="5699160" cy="5295600"/>
          </a:xfrm>
          <a:prstGeom prst="horizontalScroll">
            <a:avLst>
              <a:gd name="adj" fmla="val 12500"/>
            </a:avLst>
          </a:prstGeom>
          <a:solidFill>
            <a:srgbClr val="ff99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ve got a Music 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is my favou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has got a Science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y has got a book about f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has got a book about c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Bandari - Moonglow.mp3" descr=""/>
          <p:cNvPicPr/>
          <p:nvPr/>
        </p:nvPicPr>
        <p:blipFill>
          <a:blip r:embed="rId1"/>
          <a:stretch/>
        </p:blipFill>
        <p:spPr>
          <a:xfrm>
            <a:off x="8101080" y="575784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t011e19ef5fca4df180"/>
          <p:cNvPicPr/>
          <p:nvPr/>
        </p:nvPicPr>
        <p:blipFill>
          <a:blip r:embed="rId2"/>
          <a:stretch/>
        </p:blipFill>
        <p:spPr>
          <a:xfrm>
            <a:off x="179280" y="4797360"/>
            <a:ext cx="1440000" cy="1427400"/>
          </a:xfrm>
          <a:prstGeom prst="rect">
            <a:avLst/>
          </a:prstGeom>
          <a:ln w="0">
            <a:noFill/>
          </a:ln>
        </p:spPr>
      </p:pic>
      <p:pic>
        <p:nvPicPr>
          <p:cNvPr id="230" name="作文范文.mp3" descr=""/>
          <p:cNvPicPr/>
          <p:nvPr/>
        </p:nvPicPr>
        <p:blipFill>
          <a:blip r:embed="rId3"/>
          <a:stretch/>
        </p:blipFill>
        <p:spPr>
          <a:xfrm>
            <a:off x="8172360" y="494172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9"/>
          <p:cNvSpPr/>
          <p:nvPr/>
        </p:nvSpPr>
        <p:spPr>
          <a:xfrm>
            <a:off x="250920" y="62280"/>
            <a:ext cx="8508960" cy="1767600"/>
          </a:xfrm>
          <a:prstGeom prst="horizontalScroll">
            <a:avLst>
              <a:gd name="adj" fmla="val 12500"/>
            </a:avLst>
          </a:prstGeom>
          <a:solidFill>
            <a:srgbClr val="ff99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音乐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e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科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美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故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诗歌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iom story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语故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寓言故事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       se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海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           c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23156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530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WordArt 2" descr=""/>
          <p:cNvPicPr/>
          <p:nvPr/>
        </p:nvPicPr>
        <p:blipFill>
          <a:blip r:embed="rId1"/>
          <a:stretch/>
        </p:blipFill>
        <p:spPr>
          <a:xfrm>
            <a:off x="1584360" y="1401840"/>
            <a:ext cx="4365720" cy="271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55"/>
          <p:cNvPicPr/>
          <p:nvPr/>
        </p:nvPicPr>
        <p:blipFill>
          <a:blip r:embed="rId2"/>
          <a:stretch/>
        </p:blipFill>
        <p:spPr>
          <a:xfrm>
            <a:off x="0" y="42210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45"/>
          <p:cNvPicPr/>
          <p:nvPr/>
        </p:nvPicPr>
        <p:blipFill>
          <a:blip r:embed="rId3"/>
          <a:stretch/>
        </p:blipFill>
        <p:spPr>
          <a:xfrm>
            <a:off x="5580000" y="4076640"/>
            <a:ext cx="3327480" cy="2419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8989"/>
          <p:cNvPicPr/>
          <p:nvPr/>
        </p:nvPicPr>
        <p:blipFill>
          <a:blip r:embed="rId4"/>
          <a:stretch/>
        </p:blipFill>
        <p:spPr>
          <a:xfrm>
            <a:off x="0" y="0"/>
            <a:ext cx="3059280" cy="2224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888"/>
          <p:cNvPicPr/>
          <p:nvPr/>
        </p:nvPicPr>
        <p:blipFill>
          <a:blip r:embed="rId5"/>
          <a:stretch/>
        </p:blipFill>
        <p:spPr>
          <a:xfrm>
            <a:off x="6156360" y="0"/>
            <a:ext cx="298764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图片1"/>
          <p:cNvPicPr/>
          <p:nvPr/>
        </p:nvPicPr>
        <p:blipFill>
          <a:blip r:embed="rId1"/>
          <a:stretch/>
        </p:blipFill>
        <p:spPr>
          <a:xfrm>
            <a:off x="755640" y="476280"/>
            <a:ext cx="1181160" cy="2019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843280" y="148428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32000" y="3141720"/>
            <a:ext cx="59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做：  背写单词、功能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做：  表演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gifbj061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2.wmv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gifbj0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29000"/>
            <a:ext cx="8964720" cy="3311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468360" y="1700280"/>
            <a:ext cx="885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1:  _____ has Laura g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2:  _____ is Laura fro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3:  _______ Laura’s br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900000" y="404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348000" y="404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796000" y="40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>
            <a:hlinkClick r:id="rId3"/>
          </p:cNvPr>
          <p:cNvSpPr/>
          <p:nvPr/>
        </p:nvSpPr>
        <p:spPr>
          <a:xfrm>
            <a:off x="7667640" y="5734080"/>
            <a:ext cx="1258920" cy="647640"/>
          </a:xfrm>
          <a:custGeom>
            <a:avLst/>
            <a:gdLst>
              <a:gd name="textAreaLeft" fmla="*/ 41760 w 1258920"/>
              <a:gd name="textAreaRight" fmla="*/ 1217160 w 125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1976" h="21600">
                <a:moveTo>
                  <a:pt x="0" y="0"/>
                </a:moveTo>
                <a:lnTo>
                  <a:pt x="41976" y="0"/>
                </a:lnTo>
                <a:lnTo>
                  <a:pt x="41976" y="21600"/>
                </a:lnTo>
                <a:lnTo>
                  <a:pt x="0" y="21600"/>
                </a:lnTo>
                <a:close/>
              </a:path>
              <a:path fill="lightenLess" w="41976" h="21600">
                <a:moveTo>
                  <a:pt x="0" y="0"/>
                </a:moveTo>
                <a:lnTo>
                  <a:pt x="41976" y="0"/>
                </a:lnTo>
                <a:lnTo>
                  <a:pt x="40576" y="1400"/>
                </a:lnTo>
                <a:lnTo>
                  <a:pt x="1400" y="1400"/>
                </a:lnTo>
                <a:close/>
              </a:path>
              <a:path fill="darken" w="41976" h="21600">
                <a:moveTo>
                  <a:pt x="41976" y="0"/>
                </a:moveTo>
                <a:lnTo>
                  <a:pt x="41976" y="21600"/>
                </a:lnTo>
                <a:lnTo>
                  <a:pt x="40576" y="20200"/>
                </a:lnTo>
                <a:lnTo>
                  <a:pt x="40576" y="1400"/>
                </a:lnTo>
                <a:close/>
              </a:path>
              <a:path fill="darkenLess" w="41976" h="21600">
                <a:moveTo>
                  <a:pt x="41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76" y="20200"/>
                </a:lnTo>
                <a:close/>
              </a:path>
              <a:path fill="lighten" w="41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76" h="21600">
                <a:moveTo>
                  <a:pt x="13982" y="7301"/>
                </a:moveTo>
                <a:lnTo>
                  <a:pt x="14895" y="7301"/>
                </a:lnTo>
                <a:lnTo>
                  <a:pt x="15278" y="7667"/>
                </a:lnTo>
                <a:lnTo>
                  <a:pt x="24487" y="7667"/>
                </a:lnTo>
                <a:lnTo>
                  <a:pt x="25044" y="8224"/>
                </a:lnTo>
                <a:lnTo>
                  <a:pt x="25044" y="8772"/>
                </a:lnTo>
                <a:lnTo>
                  <a:pt x="26889" y="8772"/>
                </a:lnTo>
                <a:lnTo>
                  <a:pt x="27255" y="8224"/>
                </a:lnTo>
                <a:lnTo>
                  <a:pt x="27994" y="8224"/>
                </a:lnTo>
                <a:lnTo>
                  <a:pt x="27994" y="13376"/>
                </a:lnTo>
                <a:lnTo>
                  <a:pt x="27255" y="13376"/>
                </a:lnTo>
                <a:lnTo>
                  <a:pt x="26889" y="12828"/>
                </a:lnTo>
                <a:lnTo>
                  <a:pt x="25044" y="12828"/>
                </a:lnTo>
                <a:lnTo>
                  <a:pt x="25044" y="14107"/>
                </a:lnTo>
                <a:lnTo>
                  <a:pt x="15461" y="14107"/>
                </a:lnTo>
                <a:lnTo>
                  <a:pt x="15461" y="9877"/>
                </a:lnTo>
                <a:lnTo>
                  <a:pt x="15278" y="9877"/>
                </a:lnTo>
                <a:lnTo>
                  <a:pt x="14895" y="10243"/>
                </a:lnTo>
                <a:lnTo>
                  <a:pt x="13982" y="10243"/>
                </a:lnTo>
                <a:close/>
              </a:path>
            </a:pathLst>
          </a:custGeom>
          <a:solidFill>
            <a:srgbClr val="ff99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0.01181 0.04766 L -0.16927 0.19454 E">
                                      <p:cBhvr>
                                        <p:cTn id="339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0382 0.04766 L 0.08264 0.32038 E">
                                      <p:cBhvr>
                                        <p:cTn id="343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-8.33333E-007 -3.6248E-006 L -0.4566 0.4254 E">
                                      <p:cBhvr>
                                        <p:cTn id="347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rcRect l="0" t="10459" r="0" b="7225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Lingling"/>
          <p:cNvPicPr/>
          <p:nvPr/>
        </p:nvPicPr>
        <p:blipFill>
          <a:blip r:embed="rId2"/>
          <a:srcRect l="0" t="0" r="69859" b="38671"/>
          <a:stretch/>
        </p:blipFill>
        <p:spPr>
          <a:xfrm>
            <a:off x="6732720" y="0"/>
            <a:ext cx="1415880" cy="216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Daming"/>
          <p:cNvPicPr/>
          <p:nvPr/>
        </p:nvPicPr>
        <p:blipFill>
          <a:blip r:embed="rId3"/>
          <a:stretch/>
        </p:blipFill>
        <p:spPr>
          <a:xfrm>
            <a:off x="0" y="0"/>
            <a:ext cx="1512720" cy="2133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Amy"/>
          <p:cNvPicPr/>
          <p:nvPr/>
        </p:nvPicPr>
        <p:blipFill>
          <a:blip r:embed="rId4"/>
          <a:srcRect l="0" t="2520" r="66051" b="43717"/>
          <a:stretch/>
        </p:blipFill>
        <p:spPr>
          <a:xfrm>
            <a:off x="4356000" y="189000"/>
            <a:ext cx="1675080" cy="198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Sam"/>
          <p:cNvPicPr/>
          <p:nvPr/>
        </p:nvPicPr>
        <p:blipFill>
          <a:blip r:embed="rId5"/>
          <a:srcRect l="0" t="2526" r="79298" b="55030"/>
          <a:stretch/>
        </p:blipFill>
        <p:spPr>
          <a:xfrm>
            <a:off x="2050920" y="0"/>
            <a:ext cx="1387440" cy="2133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109548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53160" y="3141720"/>
            <a:ext cx="878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  <a:ea typeface="Analgesics"/>
              </a:rPr>
              <a:t>I’ve got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  <a:ea typeface="Analgesics"/>
              </a:rPr>
              <a:t> long, yellow hai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  <a:ea typeface="Analgesics"/>
              </a:rPr>
              <a:t>I’ve got two big ey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  <a:ea typeface="Analgesics"/>
              </a:rPr>
              <a:t>Who am I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3851280" y="0"/>
            <a:ext cx="2448000" cy="2565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1.wav" descr=""/>
          <p:cNvPicPr/>
          <p:nvPr/>
        </p:nvPicPr>
        <p:blipFill>
          <a:blip r:embed="rId6"/>
          <a:stretch/>
        </p:blipFill>
        <p:spPr>
          <a:xfrm>
            <a:off x="6732720" y="530064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8980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45"/>
          <p:cNvPicPr/>
          <p:nvPr/>
        </p:nvPicPr>
        <p:blipFill>
          <a:blip r:embed="rId1"/>
          <a:stretch/>
        </p:blipFill>
        <p:spPr>
          <a:xfrm>
            <a:off x="468360" y="620640"/>
            <a:ext cx="7775640" cy="520560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826920" y="3068640"/>
            <a:ext cx="4537080" cy="32400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.wmv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1332000" y="189000"/>
            <a:ext cx="6335640" cy="1439640"/>
          </a:xfrm>
          <a:custGeom>
            <a:avLst/>
            <a:gdLst>
              <a:gd name="textAreaLeft" fmla="*/ 1584000 w 6335640"/>
              <a:gd name="textAreaRight" fmla="*/ 4752000 w 6335640"/>
              <a:gd name="textAreaTop" fmla="*/ 18000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708360" y="4762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task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Picture 3" descr="gifbj061"/>
          <p:cNvPicPr/>
          <p:nvPr/>
        </p:nvPicPr>
        <p:blipFill>
          <a:blip r:embed="rId1"/>
          <a:stretch/>
        </p:blipFill>
        <p:spPr>
          <a:xfrm>
            <a:off x="0" y="3546360"/>
            <a:ext cx="9144000" cy="3311640"/>
          </a:xfrm>
          <a:prstGeom prst="rect">
            <a:avLst/>
          </a:prstGeom>
          <a:ln w="0">
            <a:noFill/>
          </a:ln>
        </p:spPr>
      </p:pic>
      <p:pic>
        <p:nvPicPr>
          <p:cNvPr id="58" name="WordArt 5" descr=""/>
          <p:cNvPicPr/>
          <p:nvPr/>
        </p:nvPicPr>
        <p:blipFill>
          <a:blip r:embed="rId2"/>
          <a:stretch/>
        </p:blipFill>
        <p:spPr>
          <a:xfrm>
            <a:off x="237960" y="2341440"/>
            <a:ext cx="8766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WordArt 2" descr=""/>
          <p:cNvPicPr/>
          <p:nvPr/>
        </p:nvPicPr>
        <p:blipFill>
          <a:blip r:embed="rId1"/>
          <a:stretch/>
        </p:blipFill>
        <p:spPr>
          <a:xfrm>
            <a:off x="1438200" y="1616040"/>
            <a:ext cx="43722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图书馆"/>
          <p:cNvPicPr/>
          <p:nvPr/>
        </p:nvPicPr>
        <p:blipFill>
          <a:blip r:embed="rId1"/>
          <a:stretch/>
        </p:blipFill>
        <p:spPr>
          <a:xfrm>
            <a:off x="395280" y="260280"/>
            <a:ext cx="3887640" cy="2584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8"/>
          <p:cNvSpPr/>
          <p:nvPr/>
        </p:nvSpPr>
        <p:spPr>
          <a:xfrm>
            <a:off x="1187280" y="31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管理员"/>
          <p:cNvPicPr/>
          <p:nvPr/>
        </p:nvPicPr>
        <p:blipFill>
          <a:blip r:embed="rId2"/>
          <a:stretch/>
        </p:blipFill>
        <p:spPr>
          <a:xfrm>
            <a:off x="4643280" y="1700280"/>
            <a:ext cx="4179960" cy="27860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0"/>
          <p:cNvSpPr/>
          <p:nvPr/>
        </p:nvSpPr>
        <p:spPr>
          <a:xfrm>
            <a:off x="5508720" y="472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bra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118728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图书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5219640" y="530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图书馆管理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971640" y="5950080"/>
            <a:ext cx="69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02:22:01Z</dcterms:created>
  <dc:creator>未知用户</dc:creator>
  <dc:description/>
  <dc:language>en-US</dc:language>
  <cp:lastModifiedBy>未知用户</cp:lastModifiedBy>
  <dcterms:modified xsi:type="dcterms:W3CDTF">2016-03-15T11:52:22Z</dcterms:modified>
  <cp:revision>65</cp:revision>
  <dc:subject/>
  <dc:title>幻灯片 1</dc:title>
</cp:coreProperties>
</file>