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0.jpeg" ContentType="image/jpeg"/>
  <Override PartName="/ppt/media/image21.jpeg" ContentType="image/jpeg"/>
  <Override PartName="/ppt/media/image4.jpeg" ContentType="image/jpeg"/>
  <Override PartName="/ppt/media/image5.jpeg" ContentType="image/jpeg"/>
  <Override PartName="/ppt/media/image3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3.png" ContentType="image/png"/>
  <Override PartName="/ppt/media/image6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31.gif" ContentType="image/gif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28.jpeg" ContentType="image/jpeg"/>
  <Override PartName="/ppt/media/image27.gif" ContentType="image/gif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46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33640" y="-36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57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33640" y="651312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F698-E7BD-4AD3-912A-CD586E93427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转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F85E-FFEB-4782-BFC0-70530F52B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65EA-0616-4164-92EC-48B5E07A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7325-FF3E-452E-86D0-B93146C1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4CFC-987D-46B7-819C-C0FAD6C1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6F17-BFBE-4F80-8DB8-8902F390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99C9-5336-456E-B0D5-DFDB29CC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29DF-5FEB-4B96-B454-7E5295A4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84D9-D6C8-4624-B641-C89DD141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4B67-64FE-44A2-90C7-0107CFA3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E2AC-F909-4160-B446-3E02B521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C069-4031-405A-B998-6D41FC4B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57C9-D0C0-4907-B576-47998051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FEFD-A467-42E7-A8A4-80D406E2CA7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76720" y="762120"/>
            <a:ext cx="2146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NSE Book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58640" y="1295280"/>
            <a:ext cx="24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Module9 Uni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981080"/>
            <a:ext cx="8136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o you want to visit  the UN build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to visit Ch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to visit the Great W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28195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o you want to visit Chi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72000" y="3430440"/>
            <a:ext cx="457200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29160" y="1066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213372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Do you want to visit…?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谈论旅游打算并介绍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0"/>
            <a:ext cx="756288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o you want to guess my favourite pl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2438280" y="914400"/>
            <a:ext cx="6705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It’s </a:t>
            </a:r>
            <a:r>
              <a:rPr b="0" lang="zh-CN" sz="3200" spc="-1" strike="noStrike" u="sng">
                <a:solidFill>
                  <a:srgbClr val="cc3300"/>
                </a:solidFill>
                <a:uFillTx/>
                <a:latin typeface="Arial"/>
                <a:ea typeface="宋体"/>
              </a:rPr>
              <a:t>one of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my favourite place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It’s a very important build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It’s a big buil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It’s in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It wants to make peace in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What is it?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13716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宋体"/>
              </a:rPr>
              <a:t>其中之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95640" y="98100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宋体"/>
              </a:rPr>
              <a:t>th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UN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宋体"/>
              </a:rPr>
              <a:t> buil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643280" y="1557360"/>
            <a:ext cx="43344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51640" y="1557360"/>
            <a:ext cx="576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95640" y="2205000"/>
            <a:ext cx="2305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U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n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2205000"/>
            <a:ext cx="244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N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962520" y="3048120"/>
            <a:ext cx="3047760" cy="2431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140360" y="2637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联合的               国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932360" y="549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联合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1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1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内部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内部2"/>
          <p:cNvPicPr/>
          <p:nvPr/>
        </p:nvPicPr>
        <p:blipFill>
          <a:blip r:embed="rId3"/>
          <a:stretch/>
        </p:blipFill>
        <p:spPr>
          <a:xfrm>
            <a:off x="0" y="0"/>
            <a:ext cx="9515520" cy="7134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内部4"/>
          <p:cNvPicPr/>
          <p:nvPr/>
        </p:nvPicPr>
        <p:blipFill>
          <a:blip r:embed="rId4"/>
          <a:stretch/>
        </p:blipFill>
        <p:spPr>
          <a:xfrm>
            <a:off x="0" y="0"/>
            <a:ext cx="9515520" cy="713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28600" y="8110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宋体"/>
              </a:rPr>
              <a:t>Do you want to know more about the UN build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31240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宋体"/>
              </a:rPr>
              <a:t>Where does Daming want to vis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-30528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 and repeat, then answer the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295280"/>
            <a:ext cx="82296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316800" indent="-31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)   Where is the UN build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宋体"/>
              </a:rPr>
              <a:t>It’s in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)  What does the UN building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宋体"/>
              </a:rPr>
              <a:t>It’s beautiful. It’s very big and very t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s China in the U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宋体"/>
              </a:rPr>
              <a:t>Yes. China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宋体"/>
              </a:rPr>
              <a:t>one of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宋体"/>
              </a:rPr>
              <a:t> the 193 member states in the 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one of---     +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名词复数形式</a:t>
            </a:r>
            <a:br>
              <a:rPr sz="40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中之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2209680"/>
            <a:ext cx="89917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a is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one 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193 member states in the 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3200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  <a:ea typeface="宋体"/>
              </a:rPr>
              <a:t>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20040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Miss Jiang is 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one of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the beautiful______(teache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Sam is one of our ______(frien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7749" t="5806" r="3874" b="10246"/>
          <a:stretch/>
        </p:blipFill>
        <p:spPr>
          <a:xfrm>
            <a:off x="3581280" y="1523880"/>
            <a:ext cx="1084320" cy="765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133720" y="1523880"/>
            <a:ext cx="915840" cy="728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334120" y="1600200"/>
            <a:ext cx="1052280" cy="738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276720" y="38098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  <a:ea typeface="宋体"/>
              </a:rPr>
              <a:t>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219320" y="4343040"/>
            <a:ext cx="89913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does the UN want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2702" t="58159" r="0" b="15361"/>
          <a:stretch/>
        </p:blipFill>
        <p:spPr>
          <a:xfrm>
            <a:off x="0" y="304920"/>
            <a:ext cx="9144000" cy="2361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238880" y="18288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2209680"/>
            <a:ext cx="4343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rcRect l="9912" t="7459" r="10811" b="43341"/>
          <a:stretch/>
        </p:blipFill>
        <p:spPr>
          <a:xfrm>
            <a:off x="7162920" y="533520"/>
            <a:ext cx="175248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380880"/>
            <a:ext cx="35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the Five-finger Mou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3192480"/>
            <a:ext cx="5029200" cy="36655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91458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UN wants to 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make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1" lang="en-US" sz="3600" spc="-1" strike="noStrike" u="sng">
                <a:solidFill>
                  <a:srgbClr val="cc3300"/>
                </a:solidFill>
                <a:uFillTx/>
                <a:latin typeface="Times New Roman"/>
              </a:rPr>
              <a:t>ea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in the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worl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5181480" y="175248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rial"/>
                <a:ea typeface="宋体"/>
              </a:rPr>
              <a:t>/i: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2743200" y="25146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  <a:ea typeface="宋体"/>
              </a:rPr>
              <a:t>pl</a:t>
            </a:r>
            <a:r>
              <a:rPr b="1" i="1" lang="en-US" sz="3600" spc="-1" strike="noStrike">
                <a:solidFill>
                  <a:srgbClr val="6600ff"/>
                </a:solidFill>
                <a:latin typeface="Arial"/>
                <a:ea typeface="宋体"/>
              </a:rPr>
              <a:t>ea</a:t>
            </a:r>
            <a:r>
              <a:rPr b="1" lang="en-US" sz="3600" spc="-1" strike="noStrike">
                <a:solidFill>
                  <a:srgbClr val="1c1c1c"/>
                </a:solidFill>
                <a:latin typeface="Arial"/>
                <a:ea typeface="宋体"/>
              </a:rPr>
              <a:t>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5641920" y="25146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  <a:ea typeface="宋体"/>
              </a:rPr>
              <a:t>t</a:t>
            </a:r>
            <a:r>
              <a:rPr b="1" i="1" lang="en-US" sz="3600" spc="-1" strike="noStrike">
                <a:solidFill>
                  <a:srgbClr val="6600ff"/>
                </a:solidFill>
                <a:latin typeface="Arial"/>
                <a:ea typeface="宋体"/>
              </a:rPr>
              <a:t>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4419720" y="251460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  <a:ea typeface="宋体"/>
              </a:rPr>
              <a:t>m</a:t>
            </a:r>
            <a:r>
              <a:rPr b="1" i="1" lang="en-US" sz="3600" spc="-1" strike="noStrike">
                <a:solidFill>
                  <a:srgbClr val="6600ff"/>
                </a:solidFill>
                <a:latin typeface="Arial"/>
                <a:ea typeface="宋体"/>
              </a:rPr>
              <a:t>ea</a:t>
            </a:r>
            <a:r>
              <a:rPr b="1" lang="en-US" sz="3600" spc="-1" strike="noStrike">
                <a:solidFill>
                  <a:srgbClr val="1c1c1c"/>
                </a:solidFill>
                <a:latin typeface="Arial"/>
                <a:ea typeface="宋体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123"/>
          <p:cNvPicPr/>
          <p:nvPr/>
        </p:nvPicPr>
        <p:blipFill>
          <a:blip r:embed="rId2"/>
          <a:srcRect l="0" t="0" r="0" b="22042"/>
          <a:stretch/>
        </p:blipFill>
        <p:spPr>
          <a:xfrm>
            <a:off x="0" y="0"/>
            <a:ext cx="4800600" cy="39625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876560" y="380880"/>
            <a:ext cx="4267080" cy="23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isn’t peac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ople need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80880" y="4038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UN wants to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ake pea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 the worl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1" descr="W020090609489080437969"/>
          <p:cNvPicPr/>
          <p:nvPr/>
        </p:nvPicPr>
        <p:blipFill>
          <a:blip r:embed="rId3"/>
          <a:stretch/>
        </p:blipFill>
        <p:spPr>
          <a:xfrm>
            <a:off x="0" y="0"/>
            <a:ext cx="4800600" cy="3962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战乱"/>
          <p:cNvPicPr/>
          <p:nvPr/>
        </p:nvPicPr>
        <p:blipFill>
          <a:blip r:embed="rId4"/>
          <a:stretch/>
        </p:blipFill>
        <p:spPr>
          <a:xfrm>
            <a:off x="0" y="0"/>
            <a:ext cx="4800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5"/>
          <p:cNvSpPr/>
          <p:nvPr/>
        </p:nvSpPr>
        <p:spPr>
          <a:xfrm>
            <a:off x="516960" y="2133720"/>
            <a:ext cx="27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Ye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e 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380880" y="304920"/>
            <a:ext cx="87631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Haven’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we got buildings like this in China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097880" y="2209680"/>
            <a:ext cx="310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N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e have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否定疑问句 –— 根据实际回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362320" y="914400"/>
            <a:ext cx="54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我们中国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没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像这样的建筑物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609480" y="2590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我们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114800" y="2666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是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我们没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0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Do you want to fill in the blan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UN building is a very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importa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building in New York. It’s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beautifu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It’s very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big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tal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It’s about 167 metres high. The UN building was built in 1947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UN wants to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make peac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worl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any countries are in the UN. China is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one of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193 member states in the UN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600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762120"/>
            <a:ext cx="5651640" cy="74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beautiful,   big,    important,    tall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make  peace,    world,    one 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320040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2057400"/>
            <a:ext cx="1600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8120" y="2666880"/>
            <a:ext cx="14475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43600" y="2743200"/>
            <a:ext cx="533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62920" y="2743200"/>
            <a:ext cx="5331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4114800"/>
            <a:ext cx="1828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91520" y="4114800"/>
            <a:ext cx="1295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4952880"/>
            <a:ext cx="12952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32004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32004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449568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315200" y="533412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67480" y="44956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48720" y="2743200"/>
            <a:ext cx="685800" cy="457200"/>
          </a:xfrm>
          <a:prstGeom prst="rect">
            <a:avLst/>
          </a:prstGeom>
          <a:solidFill>
            <a:srgbClr val="ff99cc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3429000"/>
            <a:ext cx="7848720" cy="533520"/>
          </a:xfrm>
          <a:prstGeom prst="rect">
            <a:avLst/>
          </a:prstGeom>
          <a:solidFill>
            <a:srgbClr val="ff99cc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14800"/>
            <a:ext cx="1371600" cy="457200"/>
          </a:xfrm>
          <a:prstGeom prst="rect">
            <a:avLst/>
          </a:prstGeom>
          <a:solidFill>
            <a:srgbClr val="ff99cc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610480" y="6400800"/>
            <a:ext cx="304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2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9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83818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you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want t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visit the UN buil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UN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wants t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ake peace in the wor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you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want t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go into the buil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5300640"/>
            <a:ext cx="5689800" cy="936720"/>
          </a:xfrm>
          <a:prstGeom prst="wedgeEllipseCallout">
            <a:avLst>
              <a:gd name="adj1" fmla="val -15152"/>
              <a:gd name="adj2" fmla="val -108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ant t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达想要做某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后面接动词原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et’s read them again and f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52680" y="19810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  <a:ea typeface="宋体"/>
              </a:rPr>
              <a:t>vi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33920" y="3124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  <a:ea typeface="宋体"/>
              </a:rPr>
              <a:t>m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43434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  <a:ea typeface="宋体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28240" y="22860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want       B.wants      C.want to      D.want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I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visit  the  Chinatown this summ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Sam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ake some pho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We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some banan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"/>
          <p:cNvSpPr/>
          <p:nvPr/>
        </p:nvSpPr>
        <p:spPr>
          <a:xfrm>
            <a:off x="4114800" y="380880"/>
            <a:ext cx="1143000" cy="685800"/>
          </a:xfrm>
          <a:prstGeom prst="ellipse">
            <a:avLst/>
          </a:prstGeom>
          <a:noFill/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380880"/>
            <a:ext cx="8991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Do you want to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play / playing) the flu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选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004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38862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4572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64008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want to go to---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156360" y="260280"/>
            <a:ext cx="2521080" cy="490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838080"/>
            <a:ext cx="8353440" cy="931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It’s in Beijing. It’s very long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It’s more than two thousand years old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5410080"/>
            <a:ext cx="8353440" cy="855720"/>
          </a:xfrm>
          <a:prstGeom prst="rect">
            <a:avLst/>
          </a:prstGeom>
          <a:solidFill>
            <a:srgbClr val="ff660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It’s an important building in America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It’s beautiful, big and tall.It’s 167m high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981080"/>
            <a:ext cx="8610480" cy="7030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It’s a beautiful park in Dalian.There is a big football building inside it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895480"/>
            <a:ext cx="8353440" cy="398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It’s an island. There is  the Five Finger Mountains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8459640" y="0"/>
            <a:ext cx="684360" cy="684360"/>
          </a:xfrm>
          <a:prstGeom prst="rect">
            <a:avLst/>
          </a:prstGeom>
          <a:ln w="0">
            <a:noFill/>
          </a:ln>
        </p:spPr>
      </p:pic>
      <p:grpSp>
        <p:nvGrpSpPr>
          <p:cNvPr id="177" name=""/>
          <p:cNvGrpSpPr/>
          <p:nvPr/>
        </p:nvGrpSpPr>
        <p:grpSpPr>
          <a:xfrm>
            <a:off x="8782200" y="620640"/>
            <a:ext cx="361440" cy="6237000"/>
            <a:chOff x="8782200" y="620640"/>
            <a:chExt cx="361440" cy="6237000"/>
          </a:xfrm>
        </p:grpSpPr>
        <p:sp>
          <p:nvSpPr>
            <p:cNvPr id="178" name=""/>
            <p:cNvSpPr/>
            <p:nvPr/>
          </p:nvSpPr>
          <p:spPr>
            <a:xfrm>
              <a:off x="8782200" y="698760"/>
              <a:ext cx="361440" cy="6158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782200" y="620640"/>
              <a:ext cx="361440" cy="231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8854920" y="909720"/>
            <a:ext cx="216000" cy="5911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581280"/>
            <a:ext cx="8424720" cy="703080"/>
          </a:xfrm>
          <a:prstGeom prst="rect">
            <a:avLst/>
          </a:prstGeom>
          <a:solidFill>
            <a:srgbClr val="ffff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It’s in New York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There are lots of Chinese shops and restaurants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56360" y="1052640"/>
            <a:ext cx="230328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 Great Wa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4495680"/>
            <a:ext cx="8424720" cy="703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It’s one of our English teachers’ flat.It’s near to our Primary Schoo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91520" y="2819520"/>
            <a:ext cx="115236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ain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3733920"/>
            <a:ext cx="165564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hinatow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4876920"/>
            <a:ext cx="259092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iss Jiang’s ho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5715000"/>
            <a:ext cx="259236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 UN build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29400" y="2286000"/>
            <a:ext cx="2160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Labor Pa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200400" y="0"/>
            <a:ext cx="1600200" cy="1447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3657600"/>
            <a:ext cx="914400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It’s a (an) very ___________ building in ___________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It’s  ________and________.   ________________.I want to go there with ____,I want to go there by _______. And I want to _______________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___________________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1676520" cy="1447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1371600"/>
            <a:ext cx="197964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Times New Roman"/>
                <a:ea typeface="宋体"/>
              </a:rPr>
              <a:t>The Great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hina, 2000   years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0000km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1523880"/>
            <a:ext cx="230364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The Empire State Buildi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 US, 400m hig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0 years 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371600"/>
            <a:ext cx="208908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Times New Roman"/>
                <a:ea typeface="宋体"/>
              </a:rPr>
              <a:t>The UN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meric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ake peace in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781680" y="0"/>
            <a:ext cx="12384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676520" y="533520"/>
            <a:ext cx="352872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Homework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1447920"/>
            <a:ext cx="754380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必做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背写核心词、功能句，背诵课文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完成一篇有关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UN building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小练笔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选做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向家人、朋友介绍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UN building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或介绍自己的假期计划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638680" y="38088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14400" y="30492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  <a:ea typeface="宋体"/>
              </a:rPr>
              <a:t>the Ming To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 rot="21183600">
            <a:off x="836280" y="4471560"/>
            <a:ext cx="449568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Thank you!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838080" y="1143000"/>
            <a:ext cx="792504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One world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，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one dream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(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同一个世界，同一个梦想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The world needs peace.We love peace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410080" y="3657600"/>
            <a:ext cx="266724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72600" cy="7086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72200" y="9144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Chinat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19320" y="838080"/>
            <a:ext cx="35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fba3"/>
                </a:solidFill>
                <a:latin typeface="Comic Sans MS"/>
                <a:ea typeface="宋体"/>
              </a:rPr>
              <a:t>the Summer Pa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19320" y="83808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fba3"/>
                </a:solidFill>
                <a:latin typeface="Comic Sans MS"/>
                <a:ea typeface="宋体"/>
              </a:rPr>
              <a:t>the White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2700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76212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fba3"/>
                </a:solidFill>
                <a:latin typeface="Comic Sans MS"/>
                <a:ea typeface="宋体"/>
              </a:rPr>
              <a:t>the Kite 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7200" y="76212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the Mountain T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" y="76212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the Stoneh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2T06:48:11Z</dcterms:created>
  <dc:creator>user</dc:creator>
  <dc:description/>
  <dc:language>en-US</dc:language>
  <cp:lastModifiedBy>user</cp:lastModifiedBy>
  <dcterms:modified xsi:type="dcterms:W3CDTF">2015-12-22T06:48:15Z</dcterms:modified>
  <cp:revision>10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