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9.gif" ContentType="image/gif"/>
  <Override PartName="/ppt/media/image8.gif" ContentType="image/gif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2D1-808F-4665-BCAD-94A0C48A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55D-4F81-480D-A36E-E86A2AC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DFF-AF69-4483-BB09-7304498A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864-4AAE-4279-A5C7-E2528893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E59-B905-46C2-A6CA-0640D73F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F24-8F0A-4480-96C0-5A73EBF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39A-A1F6-4790-8D35-5DDAA4F7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FDF-AD6B-487F-8FEB-046E827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63D-1BA9-4C33-A916-C6DA9C4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B4C-0F17-4092-9A7E-0B0719D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1E6-DCE1-42CF-B340-BF856FCC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79B-DAD6-4ADA-B6D0-AB67B5C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B573-2D82-4D90-88E4-1283932E3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19.jpeg"/><Relationship Id="rId21" Type="http://schemas.openxmlformats.org/officeDocument/2006/relationships/image" Target="../media/image16.jpeg"/><Relationship Id="rId22" Type="http://schemas.openxmlformats.org/officeDocument/2006/relationships/image" Target="../media/image15.jpe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gif"/><Relationship Id="rId33" Type="http://schemas.openxmlformats.org/officeDocument/2006/relationships/image" Target="../media/image9.gif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16.jpeg"/><Relationship Id="rId3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4.png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18.png"/><Relationship Id="rId3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41120" y="5618160"/>
            <a:ext cx="9321480" cy="1266840"/>
          </a:xfrm>
          <a:custGeom>
            <a:avLst/>
            <a:gdLst/>
            <a:ahLst/>
            <a:rect l="l" t="t" r="r" b="b"/>
            <a:pathLst>
              <a:path w="5872" h="798">
                <a:moveTo>
                  <a:pt x="66" y="753"/>
                </a:moveTo>
                <a:lnTo>
                  <a:pt x="66" y="163"/>
                </a:lnTo>
                <a:cubicBezTo>
                  <a:pt x="69" y="56"/>
                  <a:pt x="58" y="124"/>
                  <a:pt x="81" y="109"/>
                </a:cubicBezTo>
                <a:cubicBezTo>
                  <a:pt x="104" y="94"/>
                  <a:pt x="0" y="79"/>
                  <a:pt x="202" y="73"/>
                </a:cubicBezTo>
                <a:cubicBezTo>
                  <a:pt x="481" y="0"/>
                  <a:pt x="1079" y="73"/>
                  <a:pt x="1291" y="73"/>
                </a:cubicBezTo>
                <a:cubicBezTo>
                  <a:pt x="1291" y="73"/>
                  <a:pt x="1321" y="50"/>
                  <a:pt x="1472" y="73"/>
                </a:cubicBezTo>
                <a:cubicBezTo>
                  <a:pt x="1623" y="96"/>
                  <a:pt x="1926" y="194"/>
                  <a:pt x="2198" y="209"/>
                </a:cubicBezTo>
                <a:cubicBezTo>
                  <a:pt x="2470" y="224"/>
                  <a:pt x="2780" y="193"/>
                  <a:pt x="3105" y="163"/>
                </a:cubicBezTo>
                <a:cubicBezTo>
                  <a:pt x="3430" y="133"/>
                  <a:pt x="3868" y="27"/>
                  <a:pt x="4148" y="27"/>
                </a:cubicBezTo>
                <a:cubicBezTo>
                  <a:pt x="4428" y="27"/>
                  <a:pt x="4586" y="133"/>
                  <a:pt x="4783" y="163"/>
                </a:cubicBezTo>
                <a:lnTo>
                  <a:pt x="5328" y="209"/>
                </a:lnTo>
                <a:lnTo>
                  <a:pt x="5736" y="345"/>
                </a:lnTo>
                <a:lnTo>
                  <a:pt x="5872" y="390"/>
                </a:lnTo>
                <a:lnTo>
                  <a:pt x="5849" y="785"/>
                </a:lnTo>
                <a:lnTo>
                  <a:pt x="111" y="798"/>
                </a:lnTo>
                <a:lnTo>
                  <a:pt x="66" y="753"/>
                </a:lnTo>
                <a:close/>
              </a:path>
            </a:pathLst>
          </a:custGeom>
          <a:blipFill rotWithShape="0">
            <a:blip r:embed="rId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356000" y="616572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788000" y="602136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435640" y="630864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471636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5003640" y="56610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471636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5580000" y="5734080"/>
            <a:ext cx="1006560" cy="82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6" name=""/>
          <p:cNvGrpSpPr/>
          <p:nvPr/>
        </p:nvGrpSpPr>
        <p:grpSpPr>
          <a:xfrm>
            <a:off x="4859280" y="6146640"/>
            <a:ext cx="864720" cy="711000"/>
            <a:chOff x="4859280" y="6146640"/>
            <a:chExt cx="864720" cy="711000"/>
          </a:xfrm>
        </p:grpSpPr>
        <p:pic>
          <p:nvPicPr>
            <p:cNvPr id="67" name="" descr=""/>
            <p:cNvPicPr/>
            <p:nvPr/>
          </p:nvPicPr>
          <p:blipFill>
            <a:blip r:embed="rId26"/>
            <a:stretch/>
          </p:blipFill>
          <p:spPr>
            <a:xfrm>
              <a:off x="4859280" y="6146640"/>
              <a:ext cx="403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7"/>
            <a:srcRect l="0" t="0" r="26465" b="43731"/>
            <a:stretch/>
          </p:blipFill>
          <p:spPr>
            <a:xfrm>
              <a:off x="5164200" y="6146640"/>
              <a:ext cx="4064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8"/>
            <a:srcRect l="0" t="0" r="26465" b="43731"/>
            <a:stretch/>
          </p:blipFill>
          <p:spPr>
            <a:xfrm>
              <a:off x="5317560" y="6435360"/>
              <a:ext cx="40644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29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0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9907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zh-CN" sz="6000" spc="-1" strike="noStrike">
                <a:solidFill>
                  <a:srgbClr val="333399"/>
                </a:solidFill>
                <a:latin typeface="Arial"/>
              </a:rPr>
              <a:t>Module 10 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d60093"/>
                </a:solidFill>
                <a:latin typeface="Arial"/>
              </a:rPr>
              <a:t>I’ll send you a postcar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191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洋岛学校   刘建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1" name="" descr=""/>
          <p:cNvPicPr/>
          <p:nvPr/>
        </p:nvPicPr>
        <p:blipFill>
          <a:blip r:embed="rId14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2" name="" descr=""/>
          <p:cNvPicPr/>
          <p:nvPr/>
        </p:nvPicPr>
        <p:blipFill>
          <a:blip r:embed="rId15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3" name="" descr=""/>
          <p:cNvPicPr/>
          <p:nvPr/>
        </p:nvPicPr>
        <p:blipFill>
          <a:blip r:embed="rId16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17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18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9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13372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they se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0"/>
          <a:srcRect l="32226" t="40128" r="50005" b="26954"/>
          <a:stretch/>
        </p:blipFill>
        <p:spPr>
          <a:xfrm>
            <a:off x="6950160" y="4724280"/>
            <a:ext cx="2193840" cy="2133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29200" y="1523880"/>
            <a:ext cx="4114800" cy="3429000"/>
          </a:xfrm>
          <a:prstGeom prst="wedgeEllipseCallout">
            <a:avLst>
              <a:gd name="adj1" fmla="val 7486"/>
              <a:gd name="adj2" fmla="val 596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28195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nd I’ll send you a postcard from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1"/>
          <a:stretch/>
        </p:blipFill>
        <p:spPr>
          <a:xfrm>
            <a:off x="0" y="5199120"/>
            <a:ext cx="2057400" cy="1658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2"/>
          <a:srcRect l="20003" t="12369" r="20580" b="50885"/>
          <a:stretch/>
        </p:blipFill>
        <p:spPr>
          <a:xfrm>
            <a:off x="2057400" y="5410080"/>
            <a:ext cx="2286000" cy="1447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1600200"/>
            <a:ext cx="4724280" cy="3200400"/>
          </a:xfrm>
          <a:prstGeom prst="wedgeEllipseCallout">
            <a:avLst>
              <a:gd name="adj1" fmla="val -15995"/>
              <a:gd name="adj2" fmla="val 728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457200" y="2438280"/>
            <a:ext cx="579132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e’ll send you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postcard from the UK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sten repeat and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sten and s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962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-141120" y="5618160"/>
            <a:ext cx="9321480" cy="1266840"/>
          </a:xfrm>
          <a:custGeom>
            <a:avLst/>
            <a:gdLst/>
            <a:ahLst/>
            <a:rect l="l" t="t" r="r" b="b"/>
            <a:pathLst>
              <a:path w="5872" h="798">
                <a:moveTo>
                  <a:pt x="66" y="753"/>
                </a:moveTo>
                <a:lnTo>
                  <a:pt x="66" y="163"/>
                </a:lnTo>
                <a:cubicBezTo>
                  <a:pt x="69" y="56"/>
                  <a:pt x="58" y="124"/>
                  <a:pt x="81" y="109"/>
                </a:cubicBezTo>
                <a:cubicBezTo>
                  <a:pt x="104" y="94"/>
                  <a:pt x="0" y="79"/>
                  <a:pt x="202" y="73"/>
                </a:cubicBezTo>
                <a:cubicBezTo>
                  <a:pt x="481" y="0"/>
                  <a:pt x="1079" y="73"/>
                  <a:pt x="1291" y="73"/>
                </a:cubicBezTo>
                <a:cubicBezTo>
                  <a:pt x="1291" y="73"/>
                  <a:pt x="1321" y="50"/>
                  <a:pt x="1472" y="73"/>
                </a:cubicBezTo>
                <a:cubicBezTo>
                  <a:pt x="1623" y="96"/>
                  <a:pt x="1926" y="194"/>
                  <a:pt x="2198" y="209"/>
                </a:cubicBezTo>
                <a:cubicBezTo>
                  <a:pt x="2470" y="224"/>
                  <a:pt x="2780" y="193"/>
                  <a:pt x="3105" y="163"/>
                </a:cubicBezTo>
                <a:cubicBezTo>
                  <a:pt x="3430" y="133"/>
                  <a:pt x="3868" y="27"/>
                  <a:pt x="4148" y="27"/>
                </a:cubicBezTo>
                <a:cubicBezTo>
                  <a:pt x="4428" y="27"/>
                  <a:pt x="4586" y="133"/>
                  <a:pt x="4783" y="163"/>
                </a:cubicBezTo>
                <a:lnTo>
                  <a:pt x="5328" y="209"/>
                </a:lnTo>
                <a:lnTo>
                  <a:pt x="5736" y="345"/>
                </a:lnTo>
                <a:lnTo>
                  <a:pt x="5872" y="390"/>
                </a:lnTo>
                <a:lnTo>
                  <a:pt x="5849" y="785"/>
                </a:lnTo>
                <a:lnTo>
                  <a:pt x="111" y="798"/>
                </a:lnTo>
                <a:lnTo>
                  <a:pt x="66" y="753"/>
                </a:lnTo>
                <a:close/>
              </a:path>
            </a:pathLst>
          </a:custGeom>
          <a:blipFill rotWithShape="0">
            <a:blip r:embed="rId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3" name="" descr=""/>
          <p:cNvPicPr/>
          <p:nvPr/>
        </p:nvPicPr>
        <p:blipFill>
          <a:blip r:embed="rId16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4" name="" descr=""/>
          <p:cNvPicPr/>
          <p:nvPr/>
        </p:nvPicPr>
        <p:blipFill>
          <a:blip r:embed="rId17"/>
          <a:stretch/>
        </p:blipFill>
        <p:spPr>
          <a:xfrm>
            <a:off x="4356000" y="616572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5" name="" descr=""/>
          <p:cNvPicPr/>
          <p:nvPr/>
        </p:nvPicPr>
        <p:blipFill>
          <a:blip r:embed="rId18"/>
          <a:stretch/>
        </p:blipFill>
        <p:spPr>
          <a:xfrm>
            <a:off x="4788000" y="602136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6" name="" descr=""/>
          <p:cNvPicPr/>
          <p:nvPr/>
        </p:nvPicPr>
        <p:blipFill>
          <a:blip r:embed="rId19"/>
          <a:stretch/>
        </p:blipFill>
        <p:spPr>
          <a:xfrm>
            <a:off x="5435640" y="630864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7" name="" descr=""/>
          <p:cNvPicPr/>
          <p:nvPr/>
        </p:nvPicPr>
        <p:blipFill>
          <a:blip r:embed="rId20"/>
          <a:stretch/>
        </p:blipFill>
        <p:spPr>
          <a:xfrm>
            <a:off x="471636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8" name="" descr=""/>
          <p:cNvPicPr/>
          <p:nvPr/>
        </p:nvPicPr>
        <p:blipFill>
          <a:blip r:embed="rId21"/>
          <a:stretch/>
        </p:blipFill>
        <p:spPr>
          <a:xfrm>
            <a:off x="5003640" y="56610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99" name="" descr=""/>
          <p:cNvPicPr/>
          <p:nvPr/>
        </p:nvPicPr>
        <p:blipFill>
          <a:blip r:embed="rId22"/>
          <a:stretch/>
        </p:blipFill>
        <p:spPr>
          <a:xfrm>
            <a:off x="471636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00" name="" descr=""/>
          <p:cNvPicPr/>
          <p:nvPr/>
        </p:nvPicPr>
        <p:blipFill>
          <a:blip r:embed="rId23"/>
          <a:stretch/>
        </p:blipFill>
        <p:spPr>
          <a:xfrm>
            <a:off x="5580000" y="5734080"/>
            <a:ext cx="1006560" cy="820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4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02" name="" descr=""/>
          <p:cNvPicPr/>
          <p:nvPr/>
        </p:nvPicPr>
        <p:blipFill>
          <a:blip r:embed="rId25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303" name=""/>
          <p:cNvGrpSpPr/>
          <p:nvPr/>
        </p:nvGrpSpPr>
        <p:grpSpPr>
          <a:xfrm>
            <a:off x="4859280" y="6146640"/>
            <a:ext cx="864720" cy="711000"/>
            <a:chOff x="4859280" y="6146640"/>
            <a:chExt cx="864720" cy="711000"/>
          </a:xfrm>
        </p:grpSpPr>
        <p:pic>
          <p:nvPicPr>
            <p:cNvPr id="304" name="" descr=""/>
            <p:cNvPicPr/>
            <p:nvPr/>
          </p:nvPicPr>
          <p:blipFill>
            <a:blip r:embed="rId26"/>
            <a:stretch/>
          </p:blipFill>
          <p:spPr>
            <a:xfrm>
              <a:off x="4859280" y="6146640"/>
              <a:ext cx="403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7"/>
            <a:srcRect l="0" t="0" r="26465" b="43731"/>
            <a:stretch/>
          </p:blipFill>
          <p:spPr>
            <a:xfrm>
              <a:off x="5164200" y="6146640"/>
              <a:ext cx="4064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8"/>
            <a:srcRect l="0" t="0" r="26465" b="43731"/>
            <a:stretch/>
          </p:blipFill>
          <p:spPr>
            <a:xfrm>
              <a:off x="5317560" y="6435360"/>
              <a:ext cx="40644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" descr=""/>
          <p:cNvPicPr/>
          <p:nvPr/>
        </p:nvPicPr>
        <p:blipFill>
          <a:blip r:embed="rId29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0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089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summer, Amy will go back to ______. Lingling will ______there, too. Lingling will ______ English  everyday. Maybe Daming ______ visit his grandpa’s _______. He will _____ a postcard from China. Amy and Lingling will send a ________ from the U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post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5334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4343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the 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4267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5181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05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ll in the blank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2244 L 0.20833 -0.65741 E">
                                      <p:cBhvr>
                                        <p:cTn id="85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342 L -0.49167 -0.46866 E">
                                      <p:cBhvr>
                                        <p:cTn id="89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-0.00231 L -0.39167 -0.40203 E">
                                      <p:cBhvr>
                                        <p:cTn id="93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2452 L -0.29166 -0.46865 E">
                                      <p:cBhvr>
                                        <p:cTn id="97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-0.00232 L 0.54167 -0.44645 E">
                                      <p:cBhvr>
                                        <p:cTn id="101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0.031 L -0.725 -0.34651 E">
                                      <p:cBhvr>
                                        <p:cTn id="105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66 -0.01342 L 0.49166 -0.16886 E">
                                      <p:cBhvr>
                                        <p:cTn id="10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-380880" y="0"/>
            <a:ext cx="9524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Where will he/she go this sum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He/She will go 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09480" y="1447920"/>
            <a:ext cx="3581640" cy="2286000"/>
            <a:chOff x="609480" y="1447920"/>
            <a:chExt cx="3581640" cy="2286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rcRect l="22681" t="39660" r="59145" b="39759"/>
            <a:stretch/>
          </p:blipFill>
          <p:spPr>
            <a:xfrm>
              <a:off x="609480" y="2305080"/>
              <a:ext cx="216108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"/>
            <a:srcRect l="22681" t="27309" r="47204" b="58695"/>
            <a:stretch/>
          </p:blipFill>
          <p:spPr>
            <a:xfrm>
              <a:off x="609480" y="1447920"/>
              <a:ext cx="358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3"/>
            <a:srcRect l="32547" t="41307" r="47204" b="39757"/>
            <a:stretch/>
          </p:blipFill>
          <p:spPr>
            <a:xfrm>
              <a:off x="1782360" y="2419200"/>
              <a:ext cx="2408400" cy="131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4"/>
          <a:srcRect l="53060" t="26487" r="12988" b="39759"/>
          <a:stretch/>
        </p:blipFill>
        <p:spPr>
          <a:xfrm>
            <a:off x="5181480" y="144792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rcRect l="26106" t="60243" r="46941" b="8600"/>
          <a:stretch/>
        </p:blipFill>
        <p:spPr>
          <a:xfrm>
            <a:off x="685800" y="41148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rcRect l="53060" t="60243" r="12988" b="6003"/>
          <a:stretch/>
        </p:blipFill>
        <p:spPr>
          <a:xfrm>
            <a:off x="5029200" y="4114800"/>
            <a:ext cx="3733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rcRect l="0" t="0" r="0" b="5557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809880" y="3124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go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j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809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s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3434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’ll send you a post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: Ci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5000" y="548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om: 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0" t="0" r="0" b="5557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962520" y="3200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go to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3809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’ll se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4419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’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548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-762120" y="1752480"/>
            <a:ext cx="8991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必做：背写单词、功能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选做：复述课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家人一起讨论假期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77422" b="57327"/>
          <a:stretch/>
        </p:blipFill>
        <p:spPr>
          <a:xfrm>
            <a:off x="304920" y="609480"/>
            <a:ext cx="1743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41120" y="5618160"/>
            <a:ext cx="9321480" cy="1266840"/>
          </a:xfrm>
          <a:custGeom>
            <a:avLst/>
            <a:gdLst/>
            <a:ahLst/>
            <a:rect l="l" t="t" r="r" b="b"/>
            <a:pathLst>
              <a:path w="5872" h="798">
                <a:moveTo>
                  <a:pt x="66" y="753"/>
                </a:moveTo>
                <a:lnTo>
                  <a:pt x="66" y="163"/>
                </a:lnTo>
                <a:cubicBezTo>
                  <a:pt x="69" y="56"/>
                  <a:pt x="58" y="124"/>
                  <a:pt x="81" y="109"/>
                </a:cubicBezTo>
                <a:cubicBezTo>
                  <a:pt x="104" y="94"/>
                  <a:pt x="0" y="79"/>
                  <a:pt x="202" y="73"/>
                </a:cubicBezTo>
                <a:cubicBezTo>
                  <a:pt x="481" y="0"/>
                  <a:pt x="1079" y="73"/>
                  <a:pt x="1291" y="73"/>
                </a:cubicBezTo>
                <a:cubicBezTo>
                  <a:pt x="1291" y="73"/>
                  <a:pt x="1321" y="50"/>
                  <a:pt x="1472" y="73"/>
                </a:cubicBezTo>
                <a:cubicBezTo>
                  <a:pt x="1623" y="96"/>
                  <a:pt x="1926" y="194"/>
                  <a:pt x="2198" y="209"/>
                </a:cubicBezTo>
                <a:cubicBezTo>
                  <a:pt x="2470" y="224"/>
                  <a:pt x="2780" y="193"/>
                  <a:pt x="3105" y="163"/>
                </a:cubicBezTo>
                <a:cubicBezTo>
                  <a:pt x="3430" y="133"/>
                  <a:pt x="3868" y="27"/>
                  <a:pt x="4148" y="27"/>
                </a:cubicBezTo>
                <a:cubicBezTo>
                  <a:pt x="4428" y="27"/>
                  <a:pt x="4586" y="133"/>
                  <a:pt x="4783" y="163"/>
                </a:cubicBezTo>
                <a:lnTo>
                  <a:pt x="5328" y="209"/>
                </a:lnTo>
                <a:lnTo>
                  <a:pt x="5736" y="345"/>
                </a:lnTo>
                <a:lnTo>
                  <a:pt x="5872" y="390"/>
                </a:lnTo>
                <a:lnTo>
                  <a:pt x="5849" y="785"/>
                </a:lnTo>
                <a:lnTo>
                  <a:pt x="111" y="798"/>
                </a:lnTo>
                <a:lnTo>
                  <a:pt x="66" y="753"/>
                </a:lnTo>
                <a:close/>
              </a:path>
            </a:pathLst>
          </a:custGeom>
          <a:blipFill rotWithShape="0">
            <a:blip r:embed="rId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4356000" y="616572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18"/>
          <a:stretch/>
        </p:blipFill>
        <p:spPr>
          <a:xfrm>
            <a:off x="4788000" y="602136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5435640" y="630864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20"/>
          <a:stretch/>
        </p:blipFill>
        <p:spPr>
          <a:xfrm>
            <a:off x="471636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21"/>
          <a:stretch/>
        </p:blipFill>
        <p:spPr>
          <a:xfrm>
            <a:off x="5003640" y="56610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22"/>
          <a:stretch/>
        </p:blipFill>
        <p:spPr>
          <a:xfrm>
            <a:off x="471636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3"/>
          <a:stretch/>
        </p:blipFill>
        <p:spPr>
          <a:xfrm>
            <a:off x="5580000" y="5734080"/>
            <a:ext cx="1006560" cy="82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4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25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99" name=""/>
          <p:cNvGrpSpPr/>
          <p:nvPr/>
        </p:nvGrpSpPr>
        <p:grpSpPr>
          <a:xfrm>
            <a:off x="4859280" y="6146640"/>
            <a:ext cx="864720" cy="711000"/>
            <a:chOff x="4859280" y="6146640"/>
            <a:chExt cx="864720" cy="711000"/>
          </a:xfrm>
        </p:grpSpPr>
        <p:pic>
          <p:nvPicPr>
            <p:cNvPr id="100" name="" descr=""/>
            <p:cNvPicPr/>
            <p:nvPr/>
          </p:nvPicPr>
          <p:blipFill>
            <a:blip r:embed="rId26"/>
            <a:stretch/>
          </p:blipFill>
          <p:spPr>
            <a:xfrm>
              <a:off x="4859280" y="6146640"/>
              <a:ext cx="403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7"/>
            <a:srcRect l="0" t="0" r="26465" b="43731"/>
            <a:stretch/>
          </p:blipFill>
          <p:spPr>
            <a:xfrm>
              <a:off x="5164200" y="6146640"/>
              <a:ext cx="4064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8"/>
            <a:srcRect l="0" t="0" r="26465" b="43731"/>
            <a:stretch/>
          </p:blipFill>
          <p:spPr>
            <a:xfrm>
              <a:off x="5317560" y="6435360"/>
              <a:ext cx="40644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29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0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1"/>
          <a:stretch/>
        </p:blipFill>
        <p:spPr>
          <a:xfrm>
            <a:off x="324000" y="1844640"/>
            <a:ext cx="1944360" cy="125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4000" y="3357720"/>
            <a:ext cx="2016000" cy="56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83c98"/>
                  </a:outerShdw>
                </a:effectLst>
                <a:latin typeface="Times New Roman"/>
              </a:rPr>
              <a:t>the UK</a:t>
            </a:r>
            <a:endParaRPr b="1" i="1" lang="en-US" sz="6000" spc="1" strike="noStrike">
              <a:ln w="0">
                <a:noFill/>
              </a:ln>
              <a:solidFill>
                <a:srgbClr val="ff66ff"/>
              </a:solidFill>
              <a:effectLst>
                <a:outerShdw dist="17819" dir="2700000" blurRad="0" rotWithShape="0">
                  <a:srgbClr val="983c98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2"/>
          <a:stretch/>
        </p:blipFill>
        <p:spPr>
          <a:xfrm>
            <a:off x="2987640" y="184464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916360" y="3357720"/>
            <a:ext cx="12952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83c98"/>
                  </a:outerShdw>
                </a:effectLst>
                <a:latin typeface="Times New Roman"/>
              </a:rPr>
              <a:t>China</a:t>
            </a:r>
            <a:endParaRPr b="1" i="1" lang="en-US" sz="6000" spc="1" strike="noStrike">
              <a:ln w="0">
                <a:noFill/>
              </a:ln>
              <a:solidFill>
                <a:srgbClr val="ff66ff"/>
              </a:solidFill>
              <a:effectLst>
                <a:outerShdw dist="17819" dir="2700000" blurRad="0" rotWithShape="0">
                  <a:srgbClr val="983c98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3"/>
          <a:stretch/>
        </p:blipFill>
        <p:spPr>
          <a:xfrm>
            <a:off x="4788000" y="184464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59280" y="3357720"/>
            <a:ext cx="1657440" cy="56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83c98"/>
                  </a:outerShdw>
                </a:effectLst>
                <a:latin typeface="Times New Roman"/>
              </a:rPr>
              <a:t>the US</a:t>
            </a:r>
            <a:endParaRPr b="1" i="1" lang="en-US" sz="6000" spc="1" strike="noStrike">
              <a:ln w="0">
                <a:noFill/>
              </a:ln>
              <a:solidFill>
                <a:srgbClr val="ff66ff"/>
              </a:solidFill>
              <a:effectLst>
                <a:outerShdw dist="17819" dir="2700000" blurRad="0" rotWithShape="0">
                  <a:srgbClr val="983c98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4"/>
          <a:srcRect l="3307" t="1618" r="4961" b="22003"/>
          <a:stretch/>
        </p:blipFill>
        <p:spPr>
          <a:xfrm>
            <a:off x="6948360" y="1484280"/>
            <a:ext cx="1938600" cy="16002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7020000" y="342900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83c98"/>
                  </a:outerShdw>
                </a:effectLst>
                <a:latin typeface="Times New Roman"/>
              </a:rPr>
              <a:t>Australia</a:t>
            </a:r>
            <a:endParaRPr b="1" i="1" lang="en-US" sz="6000" spc="1" strike="noStrike">
              <a:ln w="0">
                <a:noFill/>
              </a:ln>
              <a:solidFill>
                <a:srgbClr val="ff66ff"/>
              </a:solidFill>
              <a:effectLst>
                <a:outerShdw dist="17819" dir="2700000" blurRad="0" rotWithShape="0">
                  <a:srgbClr val="983c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685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will go to…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2209680" cy="1312920"/>
          </a:xfrm>
          <a:prstGeom prst="rect">
            <a:avLst/>
          </a:prstGeom>
          <a:solidFill>
            <a:srgbClr val="66ff33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Let’s s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990720"/>
            <a:ext cx="7772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ill = be going to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20040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304920" y="3124080"/>
            <a:ext cx="8153640" cy="1630440"/>
            <a:chOff x="-304920" y="3124080"/>
            <a:chExt cx="8153640" cy="1630440"/>
          </a:xfrm>
        </p:grpSpPr>
        <p:sp>
          <p:nvSpPr>
            <p:cNvPr id="119" name=""/>
            <p:cNvSpPr/>
            <p:nvPr/>
          </p:nvSpPr>
          <p:spPr>
            <a:xfrm>
              <a:off x="-304920" y="3124080"/>
              <a:ext cx="5639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wil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e going 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48320" y="38098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动词原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41120" y="5618160"/>
            <a:ext cx="9321480" cy="1266840"/>
          </a:xfrm>
          <a:custGeom>
            <a:avLst/>
            <a:gdLst/>
            <a:ahLst/>
            <a:rect l="l" t="t" r="r" b="b"/>
            <a:pathLst>
              <a:path w="5872" h="798">
                <a:moveTo>
                  <a:pt x="66" y="753"/>
                </a:moveTo>
                <a:lnTo>
                  <a:pt x="66" y="163"/>
                </a:lnTo>
                <a:cubicBezTo>
                  <a:pt x="69" y="56"/>
                  <a:pt x="58" y="124"/>
                  <a:pt x="81" y="109"/>
                </a:cubicBezTo>
                <a:cubicBezTo>
                  <a:pt x="104" y="94"/>
                  <a:pt x="0" y="79"/>
                  <a:pt x="202" y="73"/>
                </a:cubicBezTo>
                <a:cubicBezTo>
                  <a:pt x="481" y="0"/>
                  <a:pt x="1079" y="73"/>
                  <a:pt x="1291" y="73"/>
                </a:cubicBezTo>
                <a:cubicBezTo>
                  <a:pt x="1291" y="73"/>
                  <a:pt x="1321" y="50"/>
                  <a:pt x="1472" y="73"/>
                </a:cubicBezTo>
                <a:cubicBezTo>
                  <a:pt x="1623" y="96"/>
                  <a:pt x="1926" y="194"/>
                  <a:pt x="2198" y="209"/>
                </a:cubicBezTo>
                <a:cubicBezTo>
                  <a:pt x="2470" y="224"/>
                  <a:pt x="2780" y="193"/>
                  <a:pt x="3105" y="163"/>
                </a:cubicBezTo>
                <a:cubicBezTo>
                  <a:pt x="3430" y="133"/>
                  <a:pt x="3868" y="27"/>
                  <a:pt x="4148" y="27"/>
                </a:cubicBezTo>
                <a:cubicBezTo>
                  <a:pt x="4428" y="27"/>
                  <a:pt x="4586" y="133"/>
                  <a:pt x="4783" y="163"/>
                </a:cubicBezTo>
                <a:lnTo>
                  <a:pt x="5328" y="209"/>
                </a:lnTo>
                <a:lnTo>
                  <a:pt x="5736" y="345"/>
                </a:lnTo>
                <a:lnTo>
                  <a:pt x="5872" y="390"/>
                </a:lnTo>
                <a:lnTo>
                  <a:pt x="5849" y="785"/>
                </a:lnTo>
                <a:lnTo>
                  <a:pt x="111" y="798"/>
                </a:lnTo>
                <a:lnTo>
                  <a:pt x="66" y="753"/>
                </a:lnTo>
                <a:close/>
              </a:path>
            </a:pathLst>
          </a:custGeom>
          <a:blipFill rotWithShape="0">
            <a:blip r:embed="rId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4356000" y="616572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18"/>
          <a:stretch/>
        </p:blipFill>
        <p:spPr>
          <a:xfrm>
            <a:off x="4788000" y="602136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19"/>
          <a:stretch/>
        </p:blipFill>
        <p:spPr>
          <a:xfrm>
            <a:off x="5435640" y="630864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0"/>
          <a:stretch/>
        </p:blipFill>
        <p:spPr>
          <a:xfrm>
            <a:off x="471636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5003640" y="56610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2"/>
          <a:stretch/>
        </p:blipFill>
        <p:spPr>
          <a:xfrm>
            <a:off x="471636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23"/>
          <a:stretch/>
        </p:blipFill>
        <p:spPr>
          <a:xfrm>
            <a:off x="5580000" y="5734080"/>
            <a:ext cx="1006560" cy="8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4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25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146" name=""/>
          <p:cNvGrpSpPr/>
          <p:nvPr/>
        </p:nvGrpSpPr>
        <p:grpSpPr>
          <a:xfrm>
            <a:off x="4859280" y="6146640"/>
            <a:ext cx="864720" cy="711000"/>
            <a:chOff x="4859280" y="6146640"/>
            <a:chExt cx="864720" cy="711000"/>
          </a:xfrm>
        </p:grpSpPr>
        <p:pic>
          <p:nvPicPr>
            <p:cNvPr id="147" name="" descr=""/>
            <p:cNvPicPr/>
            <p:nvPr/>
          </p:nvPicPr>
          <p:blipFill>
            <a:blip r:embed="rId26"/>
            <a:stretch/>
          </p:blipFill>
          <p:spPr>
            <a:xfrm>
              <a:off x="4859280" y="6146640"/>
              <a:ext cx="403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7"/>
            <a:srcRect l="0" t="0" r="26465" b="43731"/>
            <a:stretch/>
          </p:blipFill>
          <p:spPr>
            <a:xfrm>
              <a:off x="5164200" y="6146640"/>
              <a:ext cx="4064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8"/>
            <a:srcRect l="0" t="0" r="26465" b="43731"/>
            <a:stretch/>
          </p:blipFill>
          <p:spPr>
            <a:xfrm>
              <a:off x="5317560" y="6435360"/>
              <a:ext cx="40644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29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0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18288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zh-CN" sz="6000" spc="-1" strike="noStrike">
                <a:solidFill>
                  <a:srgbClr val="333399"/>
                </a:solidFill>
                <a:latin typeface="Arial"/>
              </a:rPr>
              <a:t>Module 10 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d60093"/>
                </a:solidFill>
                <a:latin typeface="Arial"/>
              </a:rPr>
              <a:t>I’ll send you a postcar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133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send you a postcard f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6483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send you  a postca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7360" y="482616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0"/>
            <a:ext cx="5028840" cy="2209680"/>
            <a:chOff x="228600" y="0"/>
            <a:chExt cx="5028840" cy="220968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228600" y="0"/>
              <a:ext cx="50288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228600" y="569880"/>
              <a:ext cx="226296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228600" y="2819520"/>
            <a:ext cx="5181480" cy="2057400"/>
            <a:chOff x="228600" y="2819520"/>
            <a:chExt cx="5181480" cy="2057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228600" y="2819520"/>
              <a:ext cx="5181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2057400" cy="152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62320" y="3886200"/>
            <a:ext cx="6476760" cy="1066680"/>
          </a:xfrm>
          <a:prstGeom prst="wedgeEllipseCallout">
            <a:avLst>
              <a:gd name="adj1" fmla="val -47032"/>
              <a:gd name="adj2" fmla="val 98513"/>
            </a:avLst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523880"/>
            <a:ext cx="6324840" cy="1295640"/>
          </a:xfrm>
          <a:prstGeom prst="wedgeEllipseCallout">
            <a:avLst>
              <a:gd name="adj1" fmla="val -53013"/>
              <a:gd name="adj2" fmla="val 9093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will you go this summer , A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20003" t="12369" r="20580" b="50885"/>
          <a:stretch/>
        </p:blipFill>
        <p:spPr>
          <a:xfrm>
            <a:off x="0" y="20574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43200" y="1828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I will go back to the U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36232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24080" y="41148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will go there ,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sten and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666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ar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going to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do, Ling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5053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about you , Da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838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sten again and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031" t="0" r="0" b="9088"/>
          <a:stretch/>
        </p:blipFill>
        <p:spPr>
          <a:xfrm>
            <a:off x="5791320" y="533520"/>
            <a:ext cx="2438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41120" y="5618160"/>
            <a:ext cx="9321480" cy="1266840"/>
          </a:xfrm>
          <a:custGeom>
            <a:avLst/>
            <a:gdLst/>
            <a:ahLst/>
            <a:rect l="l" t="t" r="r" b="b"/>
            <a:pathLst>
              <a:path w="5872" h="798">
                <a:moveTo>
                  <a:pt x="66" y="753"/>
                </a:moveTo>
                <a:lnTo>
                  <a:pt x="66" y="163"/>
                </a:lnTo>
                <a:cubicBezTo>
                  <a:pt x="69" y="56"/>
                  <a:pt x="58" y="124"/>
                  <a:pt x="81" y="109"/>
                </a:cubicBezTo>
                <a:cubicBezTo>
                  <a:pt x="104" y="94"/>
                  <a:pt x="0" y="79"/>
                  <a:pt x="202" y="73"/>
                </a:cubicBezTo>
                <a:cubicBezTo>
                  <a:pt x="481" y="0"/>
                  <a:pt x="1079" y="73"/>
                  <a:pt x="1291" y="73"/>
                </a:cubicBezTo>
                <a:cubicBezTo>
                  <a:pt x="1291" y="73"/>
                  <a:pt x="1321" y="50"/>
                  <a:pt x="1472" y="73"/>
                </a:cubicBezTo>
                <a:cubicBezTo>
                  <a:pt x="1623" y="96"/>
                  <a:pt x="1926" y="194"/>
                  <a:pt x="2198" y="209"/>
                </a:cubicBezTo>
                <a:cubicBezTo>
                  <a:pt x="2470" y="224"/>
                  <a:pt x="2780" y="193"/>
                  <a:pt x="3105" y="163"/>
                </a:cubicBezTo>
                <a:cubicBezTo>
                  <a:pt x="3430" y="133"/>
                  <a:pt x="3868" y="27"/>
                  <a:pt x="4148" y="27"/>
                </a:cubicBezTo>
                <a:cubicBezTo>
                  <a:pt x="4428" y="27"/>
                  <a:pt x="4586" y="133"/>
                  <a:pt x="4783" y="163"/>
                </a:cubicBezTo>
                <a:lnTo>
                  <a:pt x="5328" y="209"/>
                </a:lnTo>
                <a:lnTo>
                  <a:pt x="5736" y="345"/>
                </a:lnTo>
                <a:lnTo>
                  <a:pt x="5872" y="390"/>
                </a:lnTo>
                <a:lnTo>
                  <a:pt x="5849" y="785"/>
                </a:lnTo>
                <a:lnTo>
                  <a:pt x="111" y="798"/>
                </a:lnTo>
                <a:lnTo>
                  <a:pt x="66" y="753"/>
                </a:lnTo>
                <a:close/>
              </a:path>
            </a:pathLst>
          </a:custGeom>
          <a:blipFill rotWithShape="0">
            <a:blip r:embed="rId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14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15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17"/>
          <a:stretch/>
        </p:blipFill>
        <p:spPr>
          <a:xfrm>
            <a:off x="4356000" y="616572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18"/>
          <a:stretch/>
        </p:blipFill>
        <p:spPr>
          <a:xfrm>
            <a:off x="4788000" y="602136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4" name="" descr=""/>
          <p:cNvPicPr/>
          <p:nvPr/>
        </p:nvPicPr>
        <p:blipFill>
          <a:blip r:embed="rId19"/>
          <a:stretch/>
        </p:blipFill>
        <p:spPr>
          <a:xfrm>
            <a:off x="5435640" y="630864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5" name="" descr=""/>
          <p:cNvPicPr/>
          <p:nvPr/>
        </p:nvPicPr>
        <p:blipFill>
          <a:blip r:embed="rId20"/>
          <a:stretch/>
        </p:blipFill>
        <p:spPr>
          <a:xfrm>
            <a:off x="471636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>
            <a:off x="5003640" y="56610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22"/>
          <a:stretch/>
        </p:blipFill>
        <p:spPr>
          <a:xfrm>
            <a:off x="471636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23"/>
          <a:stretch/>
        </p:blipFill>
        <p:spPr>
          <a:xfrm>
            <a:off x="5580000" y="5734080"/>
            <a:ext cx="1006560" cy="820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4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25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201" name=""/>
          <p:cNvGrpSpPr/>
          <p:nvPr/>
        </p:nvGrpSpPr>
        <p:grpSpPr>
          <a:xfrm>
            <a:off x="4859280" y="6146640"/>
            <a:ext cx="864720" cy="711000"/>
            <a:chOff x="4859280" y="6146640"/>
            <a:chExt cx="864720" cy="711000"/>
          </a:xfrm>
        </p:grpSpPr>
        <p:pic>
          <p:nvPicPr>
            <p:cNvPr id="202" name="" descr=""/>
            <p:cNvPicPr/>
            <p:nvPr/>
          </p:nvPicPr>
          <p:blipFill>
            <a:blip r:embed="rId26"/>
            <a:stretch/>
          </p:blipFill>
          <p:spPr>
            <a:xfrm>
              <a:off x="4859280" y="6146640"/>
              <a:ext cx="403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7"/>
            <a:srcRect l="0" t="0" r="26465" b="43731"/>
            <a:stretch/>
          </p:blipFill>
          <p:spPr>
            <a:xfrm>
              <a:off x="5164200" y="6146640"/>
              <a:ext cx="4064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8"/>
            <a:srcRect l="0" t="0" r="26465" b="43731"/>
            <a:stretch/>
          </p:blipFill>
          <p:spPr>
            <a:xfrm>
              <a:off x="5317560" y="6435360"/>
              <a:ext cx="40644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" descr=""/>
          <p:cNvPicPr/>
          <p:nvPr/>
        </p:nvPicPr>
        <p:blipFill>
          <a:blip r:embed="rId29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0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18288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ar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going to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do, Ling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1"/>
          <a:stretch/>
        </p:blipFill>
        <p:spPr>
          <a:xfrm>
            <a:off x="0" y="3657600"/>
            <a:ext cx="2362320" cy="1905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133720" y="1905120"/>
            <a:ext cx="6629400" cy="23619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243828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 going 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peak English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141120" y="5618160"/>
            <a:ext cx="9321480" cy="1266840"/>
          </a:xfrm>
          <a:custGeom>
            <a:avLst/>
            <a:gdLst/>
            <a:ahLst/>
            <a:rect l="l" t="t" r="r" b="b"/>
            <a:pathLst>
              <a:path w="5872" h="798">
                <a:moveTo>
                  <a:pt x="66" y="753"/>
                </a:moveTo>
                <a:lnTo>
                  <a:pt x="66" y="163"/>
                </a:lnTo>
                <a:cubicBezTo>
                  <a:pt x="69" y="56"/>
                  <a:pt x="58" y="124"/>
                  <a:pt x="81" y="109"/>
                </a:cubicBezTo>
                <a:cubicBezTo>
                  <a:pt x="104" y="94"/>
                  <a:pt x="0" y="79"/>
                  <a:pt x="202" y="73"/>
                </a:cubicBezTo>
                <a:cubicBezTo>
                  <a:pt x="481" y="0"/>
                  <a:pt x="1079" y="73"/>
                  <a:pt x="1291" y="73"/>
                </a:cubicBezTo>
                <a:cubicBezTo>
                  <a:pt x="1291" y="73"/>
                  <a:pt x="1321" y="50"/>
                  <a:pt x="1472" y="73"/>
                </a:cubicBezTo>
                <a:cubicBezTo>
                  <a:pt x="1623" y="96"/>
                  <a:pt x="1926" y="194"/>
                  <a:pt x="2198" y="209"/>
                </a:cubicBezTo>
                <a:cubicBezTo>
                  <a:pt x="2470" y="224"/>
                  <a:pt x="2780" y="193"/>
                  <a:pt x="3105" y="163"/>
                </a:cubicBezTo>
                <a:cubicBezTo>
                  <a:pt x="3430" y="133"/>
                  <a:pt x="3868" y="27"/>
                  <a:pt x="4148" y="27"/>
                </a:cubicBezTo>
                <a:cubicBezTo>
                  <a:pt x="4428" y="27"/>
                  <a:pt x="4586" y="133"/>
                  <a:pt x="4783" y="163"/>
                </a:cubicBezTo>
                <a:lnTo>
                  <a:pt x="5328" y="209"/>
                </a:lnTo>
                <a:lnTo>
                  <a:pt x="5736" y="345"/>
                </a:lnTo>
                <a:lnTo>
                  <a:pt x="5872" y="390"/>
                </a:lnTo>
                <a:lnTo>
                  <a:pt x="5849" y="785"/>
                </a:lnTo>
                <a:lnTo>
                  <a:pt x="111" y="798"/>
                </a:lnTo>
                <a:lnTo>
                  <a:pt x="66" y="753"/>
                </a:lnTo>
                <a:close/>
              </a:path>
            </a:pathLst>
          </a:custGeom>
          <a:blipFill rotWithShape="0">
            <a:blip r:embed="rId1">
              <a:alphaModFix amt="9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900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54764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90800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2771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79640" y="609300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18728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2" name="" descr=""/>
          <p:cNvPicPr/>
          <p:nvPr/>
        </p:nvPicPr>
        <p:blipFill>
          <a:blip r:embed="rId11"/>
          <a:stretch/>
        </p:blipFill>
        <p:spPr>
          <a:xfrm>
            <a:off x="154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3" name="" descr=""/>
          <p:cNvPicPr/>
          <p:nvPr/>
        </p:nvPicPr>
        <p:blipFill>
          <a:blip r:embed="rId12"/>
          <a:stretch/>
        </p:blipFill>
        <p:spPr>
          <a:xfrm>
            <a:off x="1116000" y="5950080"/>
            <a:ext cx="684360" cy="54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4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14"/>
          <a:stretch/>
        </p:blipFill>
        <p:spPr>
          <a:xfrm>
            <a:off x="2050920" y="573408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6" name="" descr=""/>
          <p:cNvPicPr/>
          <p:nvPr/>
        </p:nvPicPr>
        <p:blipFill>
          <a:blip r:embed="rId15"/>
          <a:stretch/>
        </p:blipFill>
        <p:spPr>
          <a:xfrm>
            <a:off x="2627280" y="580536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7" name="" descr=""/>
          <p:cNvPicPr/>
          <p:nvPr/>
        </p:nvPicPr>
        <p:blipFill>
          <a:blip r:embed="rId16"/>
          <a:stretch/>
        </p:blipFill>
        <p:spPr>
          <a:xfrm>
            <a:off x="298764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8" name="" descr=""/>
          <p:cNvPicPr/>
          <p:nvPr/>
        </p:nvPicPr>
        <p:blipFill>
          <a:blip r:embed="rId17"/>
          <a:stretch/>
        </p:blipFill>
        <p:spPr>
          <a:xfrm>
            <a:off x="4356000" y="616572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18"/>
          <a:stretch/>
        </p:blipFill>
        <p:spPr>
          <a:xfrm>
            <a:off x="4788000" y="602136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0" name="" descr=""/>
          <p:cNvPicPr/>
          <p:nvPr/>
        </p:nvPicPr>
        <p:blipFill>
          <a:blip r:embed="rId19"/>
          <a:stretch/>
        </p:blipFill>
        <p:spPr>
          <a:xfrm>
            <a:off x="5435640" y="6308640"/>
            <a:ext cx="68400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1" name="" descr=""/>
          <p:cNvPicPr/>
          <p:nvPr/>
        </p:nvPicPr>
        <p:blipFill>
          <a:blip r:embed="rId20"/>
          <a:stretch/>
        </p:blipFill>
        <p:spPr>
          <a:xfrm>
            <a:off x="4716360" y="6308640"/>
            <a:ext cx="68436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21"/>
          <a:stretch/>
        </p:blipFill>
        <p:spPr>
          <a:xfrm>
            <a:off x="5003640" y="56610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3" name="" descr=""/>
          <p:cNvPicPr/>
          <p:nvPr/>
        </p:nvPicPr>
        <p:blipFill>
          <a:blip r:embed="rId22"/>
          <a:stretch/>
        </p:blipFill>
        <p:spPr>
          <a:xfrm>
            <a:off x="471636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4" name="" descr=""/>
          <p:cNvPicPr/>
          <p:nvPr/>
        </p:nvPicPr>
        <p:blipFill>
          <a:blip r:embed="rId23"/>
          <a:stretch/>
        </p:blipFill>
        <p:spPr>
          <a:xfrm>
            <a:off x="5580000" y="5734080"/>
            <a:ext cx="1006560" cy="820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4"/>
          <a:stretch/>
        </p:blipFill>
        <p:spPr>
          <a:xfrm>
            <a:off x="7524720" y="6093000"/>
            <a:ext cx="1006560" cy="82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25"/>
          <a:stretch/>
        </p:blipFill>
        <p:spPr>
          <a:xfrm>
            <a:off x="8137440" y="6037200"/>
            <a:ext cx="1006560" cy="8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237" name=""/>
          <p:cNvGrpSpPr/>
          <p:nvPr/>
        </p:nvGrpSpPr>
        <p:grpSpPr>
          <a:xfrm>
            <a:off x="4859280" y="6146640"/>
            <a:ext cx="864720" cy="711000"/>
            <a:chOff x="4859280" y="6146640"/>
            <a:chExt cx="864720" cy="711000"/>
          </a:xfrm>
        </p:grpSpPr>
        <p:pic>
          <p:nvPicPr>
            <p:cNvPr id="238" name="" descr=""/>
            <p:cNvPicPr/>
            <p:nvPr/>
          </p:nvPicPr>
          <p:blipFill>
            <a:blip r:embed="rId26"/>
            <a:stretch/>
          </p:blipFill>
          <p:spPr>
            <a:xfrm>
              <a:off x="4859280" y="6146640"/>
              <a:ext cx="403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7"/>
            <a:srcRect l="0" t="0" r="26465" b="43731"/>
            <a:stretch/>
          </p:blipFill>
          <p:spPr>
            <a:xfrm>
              <a:off x="5164200" y="6146640"/>
              <a:ext cx="4064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8"/>
            <a:srcRect l="0" t="0" r="26465" b="43731"/>
            <a:stretch/>
          </p:blipFill>
          <p:spPr>
            <a:xfrm>
              <a:off x="5317560" y="6435360"/>
              <a:ext cx="40644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" descr=""/>
          <p:cNvPicPr/>
          <p:nvPr/>
        </p:nvPicPr>
        <p:blipFill>
          <a:blip r:embed="rId29"/>
          <a:srcRect l="0" t="-1073" r="50029" b="0"/>
          <a:stretch/>
        </p:blipFill>
        <p:spPr>
          <a:xfrm>
            <a:off x="1403280" y="5950080"/>
            <a:ext cx="614520" cy="712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0"/>
          <a:srcRect l="0" t="-1073" r="50029" b="0"/>
          <a:stretch/>
        </p:blipFill>
        <p:spPr>
          <a:xfrm>
            <a:off x="2484360" y="5877000"/>
            <a:ext cx="614520" cy="712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33520" y="2133720"/>
            <a:ext cx="6629400" cy="1828800"/>
          </a:xfrm>
          <a:prstGeom prst="wedgeEllipseCallout">
            <a:avLst>
              <a:gd name="adj1" fmla="val 47726"/>
              <a:gd name="adj2" fmla="val 71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2096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I’ll visit my grandpa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’s</a:t>
            </a: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 far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7162920" y="3581280"/>
            <a:ext cx="1695240" cy="2000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8580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6094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What about you , Dam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04T12:18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