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chimes.wav" ContentType="audio/x-wav"/>
  <Override PartName="/ppt/media/image16.png" ContentType="image/png"/>
  <Override PartName="/ppt/media/image24.jpeg" ContentType="image/jpeg"/>
  <Override PartName="/ppt/media/image15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0.gif" ContentType="image/gif"/>
  <Override PartName="/ppt/media/image1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17B-339D-47A2-B9D3-36AE7619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26F-AF9A-4F2F-9DBD-9197CFD8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AEB-F261-4F32-9E91-35957E48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910-72CB-4D03-BD46-965C8AE4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344-74E4-4BCD-A32A-01C7872E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395-7DC8-453F-A40F-BA2D0AA0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3E4-81A6-446B-8AEF-5E47B2FB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427-4CC5-490F-8FD3-67276B3C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16A-1CEC-4775-8B79-85A31AA2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8DB-3D89-4771-B8BC-28E1F95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E88-4ADA-48F7-9528-1745DA7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3F0-997E-40FE-977A-01AB60BD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8CAD-DCC9-4613-8009-3AAB65DA36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3.jpeg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7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981000"/>
            <a:ext cx="65343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Module 10 Unit 2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2971800"/>
            <a:ext cx="80010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You shouldn't be late.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ShockwaveFlash2"/>
          <p:cNvGraphicFramePr/>
          <p:nvPr/>
        </p:nvGraphicFramePr>
        <p:xfrm>
          <a:off x="611280" y="333360"/>
          <a:ext cx="799308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ShockwaveFlash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33360"/>
                    <a:ext cx="7993080" cy="590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on’t sing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4724280"/>
            <a:ext cx="7543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houldn't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sing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2971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486400" y="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4267080"/>
            <a:ext cx="358128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486400" y="434340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059280" y="2565360"/>
            <a:ext cx="3889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n’t writ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42670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shouldn't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writ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733920" cy="358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001000" y="5943600"/>
            <a:ext cx="533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Don’t ru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shouldn't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ru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22960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Don’t tal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shouldn't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talk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001000" y="5791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the pand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houldn'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feed the pand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3733560" cy="304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You should stop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top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176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2133720"/>
            <a:ext cx="71056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It's show time.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37735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Let’s say a chan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ok left, look right, look left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car is com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 start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ok left, look right, look left,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othing is co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t’s cross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In the classroom/ hospital/ supermarket/ library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33ff"/>
                </a:solidFill>
                <a:latin typeface="Arial"/>
              </a:rPr>
              <a:t>You should 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33ff"/>
                </a:solidFill>
                <a:latin typeface="Arial"/>
              </a:rPr>
              <a:t>You shouldn’t 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5257800"/>
            <a:ext cx="38764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hospital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5410080"/>
            <a:ext cx="6705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supermarket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5334120"/>
            <a:ext cx="509616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classroom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614600" y="2751120"/>
            <a:ext cx="591480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Thank you!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716360" cy="594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88000" y="304920"/>
            <a:ext cx="4356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You should 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343400" cy="3341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3962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You shouldn’t 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95680" y="1752480"/>
            <a:ext cx="3816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476280"/>
            <a:ext cx="64864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Times New Roman"/>
              </a:rPr>
              <a:t>Memory challenge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2565360"/>
            <a:ext cx="79722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listen to the teacher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514600"/>
            <a:ext cx="76201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do homework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2438280"/>
            <a:ext cx="8153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99"/>
                </a:solidFill>
                <a:latin typeface="宋体"/>
              </a:rPr>
              <a:t>play basketball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99"/>
              </a:solidFill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9320" y="2590920"/>
            <a:ext cx="65530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Times New Roman"/>
              </a:rPr>
              <a:t>make noise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2590920"/>
            <a:ext cx="89344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tidy the classroom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514600"/>
            <a:ext cx="701064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read books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4760" y="2743200"/>
            <a:ext cx="90392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sleep in the classroom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2590920"/>
            <a:ext cx="83818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play basketball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00"/>
                </a:solidFill>
                <a:latin typeface="Times New Roman"/>
              </a:rPr>
              <a:t>You</a:t>
            </a: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cc00"/>
                </a:solidFill>
                <a:latin typeface="Times New Roman"/>
              </a:rPr>
              <a:t>should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shouldn'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listen to the teacher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do 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play footb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sleep in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tidy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read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play basketball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make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tidy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八小学五年五班班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尊敬老师，团结同学，关心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按时上学，不迟到，不早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遵守课堂纪律，专心听讲，积极发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按时完成作业，字迹工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放学时排队出校门，不在队伍中追                                     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ShockwaveFlash2"/>
          <p:cNvGraphicFramePr/>
          <p:nvPr/>
        </p:nvGraphicFramePr>
        <p:xfrm>
          <a:off x="539640" y="260280"/>
          <a:ext cx="8136000" cy="583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ShockwaveFlash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60280"/>
                    <a:ext cx="8136000" cy="583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956720" y="5950080"/>
            <a:ext cx="287280" cy="71280"/>
          </a:xfrm>
          <a:prstGeom prst="rightArrow">
            <a:avLst>
              <a:gd name="adj1" fmla="val 50000"/>
              <a:gd name="adj2" fmla="val 100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824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824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1:50:57Z</dcterms:created>
  <dc:creator>微软用户</dc:creator>
  <dc:description/>
  <dc:language>en-US</dc:language>
  <cp:lastModifiedBy>china</cp:lastModifiedBy>
  <dcterms:modified xsi:type="dcterms:W3CDTF">2009-12-09T01:15:30Z</dcterms:modified>
  <cp:revision>63</cp:revision>
  <dc:subject/>
  <dc:title>幻灯片 1</dc:title>
</cp:coreProperties>
</file>